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736C-4B02-4831-9E5C-8FCBB9F7A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68B1-CC3C-4495-B1C5-F203D49C0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9EBD-21BE-4B0D-A833-E92ED7477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EECD-79E7-4364-8071-A799AF1D6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A6C9-0A47-4C44-B089-5D6A7304C9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0275-A9A6-4392-B28B-7E8C1E231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2EDB-3E64-4713-82B9-7978C4253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6B5B-8E0D-4479-A691-199427FB4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F885-EFA8-4472-9E32-EB4E0BBE58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8000" y="770040"/>
            <a:ext cx="8245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DA29-8A5B-4519-BE53-9F5BD00BD9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AA98-1224-4A31-90F3-9BEF9467A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3A46-831D-4582-AA75-8194BA770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BAA9-9E79-4944-85E5-5CD665BC8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53C6-9010-41F4-9925-740CE98CC1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1AA7-A3AB-4F03-9FFB-1483ADED3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3A544-5AF3-4B89-BE82-3A30F0849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BF74-8F9B-4543-B3A3-4588A5880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075D-679F-48B5-A328-2121888CE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8131-0CFB-49D7-9EF4-BC63F14DE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CE80-DDE1-49DE-8FCA-326BFCC50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770040"/>
            <a:ext cx="8245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5D64-995B-497F-ABE4-E501AF8D1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62F3-A9EE-4056-A39D-95C7E5763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758-9E74-4599-A472-6874F335D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3FA2-4A72-4BCD-8ABF-E27720533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51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clipse Foundation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7057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F54-FF6A-4FF6-AB83-0C01FDFC2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C094-4B79-44EF-9D81-FE91CA202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7271-F7FF-40B3-B54B-CF9CEE7089D5}" type="datetime3">
              <a:rPr b="0" lang="en-US" sz="13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ject Dash, Eclipse Monkey Component Termination Re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jorn Freeman-Benso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gust 13, 200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A214-98D5-4DC3-B81B-43CE584D4D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 Community Eclipse Monke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294920"/>
            <a:ext cx="7348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clipse Monkey component of the Dash Project was originally created by Ward and Bjorn in March 2006 as one of their “a little technology, a little process, and a little community” efforts to help the Eclipse developer communit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key gained some users but never found a core developer team to maintain and improve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has been no major work on Eclipse Monkey for more than a year and even before that the work was mostly refactoring the existing code for better modulariz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are eight posts in the newsgroup in the last year, three of which are “is this project still alive?”.</a:t>
            </a: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eclipse.org/newsportal/thread.php?group=eclipse.technology.dash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are a few dozens of posts on the mailing list, but none are of the form “I’ll work on Monday as a committer”.</a:t>
            </a: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dev.eclipse.org/mhonarc/lists/dash-dev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clusion: the Eclipse Monkey component has no committer commun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A889-12A9-45E3-8C44-9F1BFC7D3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1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ip up and remove these directories from the CVS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dash.domifi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dash.dom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.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-fea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-sit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javascrip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rhin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rhino-fea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34A7-2D94-43E9-98D7-626355AD2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2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chive and remove these dash website files and directories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sh/monkey/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sh/monkey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e the 33 currently open bugs under Dash &gt; Eclipse monkey as “this component is being archived and thus this bug is being marked as WONTFIX”. Then mark them as WONTFIX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chive and close for further submission the Dash &gt; Eclipse monkey bugzilla component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8F9E-338B-439C-9767-34BA70F76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3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e on all these wiki pages that this component is now archived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_Overvie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Javascript_Edit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Overvie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1.0_Project_Pl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Monkey_Script_Empori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684E-CAB2-429D-864F-01B33CBBD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5:23:37Z</dcterms:created>
  <dc:creator>Bjorn Freeman-Benson</dc:creator>
  <dc:description/>
  <cp:keywords/>
  <dc:language>en-US</dc:language>
  <cp:lastModifiedBy>Bjorn Freeman-Benson</cp:lastModifiedBy>
  <dcterms:modified xsi:type="dcterms:W3CDTF">2008-08-04T23:43:27Z</dcterms:modified>
  <cp:revision>22</cp:revision>
  <dc:subject/>
  <dc:title>Eclipse Monkey Termination Review</dc:title>
</cp:coreProperties>
</file>