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64D-2292-4EEA-9224-F4E18967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09A-97E4-4D74-9A1B-6950E2A2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C64-0528-45BB-AADB-5D9BE3C8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1C6-7BED-447F-A090-1BB34252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AE8-77CC-4DCC-8EBA-3254E539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34D-22B9-4529-9D99-CA15D03D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7C3F-2426-4DA5-92EC-DDA6B810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F62-B8DA-4104-987A-8640D319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FA43-D44F-4744-A3B8-06AAF175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A3FD-3A6B-456D-B780-C4CDCEA3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547E-FB08-4FF8-A4D1-1771FBD8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B4A-BEF3-48FF-8462-97A247EB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A9C6A-CA03-4805-8720-531526292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0727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F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328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0.7.0 Release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anymed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clipse.org/modeling/emft/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s Bigeardel (c)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C03-2EB7-4A9C-B014-087C147A3F3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-22896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74320" y="914400"/>
            <a:ext cx="93265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re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 (Text, Regex &amp; OC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(Text, Regex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L2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 (Text, Regex &amp; OC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(Text, Regex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Gen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(Text, Regex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/Replace Gen For Arbitrary Ecor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EString Eattributes ! (Help Wante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s Bigeardel (c)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6D3-FB18-4F35-8AB3-A260046AC71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371600"/>
            <a:ext cx="898524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32364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rch Sc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-2872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k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-2872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-2872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-2872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2364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CP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-2872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I/non UI (Conditional Results Page Updat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-2872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2364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lone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-2872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reGrep w/ textual command lin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"/>
            <a:ext cx="90727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sc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s Bigeardel (c)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6A7-6792-4D27-872A-1D1BB1AEB84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228600"/>
            <a:ext cx="90727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oling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7560" y="2336760"/>
            <a:ext cx="898524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32364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itor Navigations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-2872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n Ecore/UML2 (E)Package Di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-2872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n Ecore/UML2 (E)Class Di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-2872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2364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agram Navigations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-2872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vigation from Result to Diagram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M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-2872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s Bigeardel (c)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D1B-3B25-4B15-91C9-EE1D7239B700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as bigeardel</dc:creator>
  <dc:description/>
  <dc:language>en-US</dc:language>
  <cp:lastModifiedBy>Air France</cp:lastModifiedBy>
  <dcterms:modified xsi:type="dcterms:W3CDTF">2008-05-21T10:26:29Z</dcterms:modified>
  <cp:revision>5</cp:revision>
  <dc:subject/>
  <dc:title>Diapositive 1</dc:title>
</cp:coreProperties>
</file>