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E0FF8-9C16-40A7-9A89-3D6F747F7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ABB16E9-92E3-4041-A83E-61409A04F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F8FE78F-C918-46C5-AB8B-B55105425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667AD5E-FD11-49FF-910D-55ADE03B9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FC96-6BF2-4287-9C62-AA15A2CF22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32A32-BD75-47AD-A7A1-8F81AFBBA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7807099-9B23-4930-948D-494BA4B01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BFB1B1-BA86-4446-BABD-D55D3C51E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1BE14D4-A526-44A7-BD15-17F14E732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06E4107-BEB3-4AF4-AFC8-0E6CF855A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4C492CD-4012-40CF-BBB3-5C281A868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468B882-FBB2-43C7-A60C-8572DD3286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1BCE-0E8B-4045-921D-EC1F9FE9173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bugs.eclipse.org/bugs/enter_bug.cgi?product=EMF&amp;component=Query&amp;component=Transaction&amp;component=Validation" TargetMode="External"/><Relationship Id="rId4" Type="http://schemas.openxmlformats.org/officeDocument/2006/relationships/hyperlink" Target="http://www.eclipse.org/newsportal/thread.php?group=eclipse.tools.emf"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emf/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EMF-QTV_1.2_NandN" TargetMode="External"/><Relationship Id="rId5" Type="http://schemas.openxmlformats.org/officeDocument/2006/relationships/hyperlink" Target="http://www.eclipse.org/modeling/emf/news/relnotes.php?project=query&amp;version=1.2.x" TargetMode="External"/><Relationship Id="rId6" Type="http://schemas.openxmlformats.org/officeDocument/2006/relationships/hyperlink" Target="http://www.eclipse.org/modeling/emf/news/relnotes.php?project=transaction&amp;version=1.2.x" TargetMode="External"/><Relationship Id="rId7" Type="http://schemas.openxmlformats.org/officeDocument/2006/relationships/hyperlink" Target="http://www.eclipse.org/modeling/emf/news/relnotes.php?project=transaction&amp;version=1.2.x" TargetMode="External"/><Relationship Id="rId8" Type="http://schemas.openxmlformats.org/officeDocument/2006/relationships/hyperlink" Target="http://www.eclipse.org/modeling/emf/news/relnotes.php?project=validation&amp;version=1.2.x" TargetMode="External"/><Relationship Id="rId9" Type="http://schemas.openxmlformats.org/officeDocument/2006/relationships/hyperlink" Target="http://www.eclipse.org/modeling/emf/news/relnotes.php?project=validation&amp;version=1.2.x" TargetMode="External"/><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152003"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52003"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clipse.org/modeling/emf/" TargetMode="External"/><Relationship Id="rId4" Type="http://schemas.openxmlformats.org/officeDocument/2006/relationships/hyperlink" Target="http://wiki.eclipse.org/index.php/EMF" TargetMode="External"/><Relationship Id="rId5" Type="http://schemas.openxmlformats.org/officeDocument/2006/relationships/hyperlink" Target="http://wiki.eclipse.org/index.php/EMF"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6024600" y="127080"/>
            <a:ext cx="2928960" cy="130788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D9B7-6F33-4DC3-8730-C8D4AD352BF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Query, Transaction, Validation 1.2.0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8</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0BFBC-9E07-40FB-9C54-0DEDCA14FE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6024600" y="127080"/>
            <a:ext cx="2928960" cy="130788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3459-836D-42C2-AD13-AC65E3C44ED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AB05A-611E-427F-8FAD-5F638E3159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879560" y="2629080"/>
            <a:ext cx="5384880" cy="241272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6024600" y="127080"/>
            <a:ext cx="2928960" cy="130788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DA16-12ED-4622-8114-710A51D88DD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4A9B8A-A632-4E0F-AC91-8FBAB3E75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6286680"/>
            <a:ext cx="9144000" cy="571320"/>
          </a:xfrm>
          <a:prstGeom prst="rect">
            <a:avLst/>
          </a:prstGeom>
          <a:ln w="0">
            <a:noFill/>
          </a:ln>
        </p:spPr>
      </p:pic>
      <p:sp>
        <p:nvSpPr>
          <p:cNvPr id="11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1" name="" descr=""/>
          <p:cNvPicPr/>
          <p:nvPr/>
        </p:nvPicPr>
        <p:blipFill>
          <a:blip r:embed="rId2"/>
          <a:stretch/>
        </p:blipFill>
        <p:spPr>
          <a:xfrm>
            <a:off x="6024600" y="127080"/>
            <a:ext cx="2928960" cy="1307880"/>
          </a:xfrm>
          <a:prstGeom prst="rect">
            <a:avLst/>
          </a:prstGeom>
          <a:ln w="0">
            <a:noFill/>
          </a:ln>
        </p:spPr>
      </p:pic>
      <p:sp>
        <p:nvSpPr>
          <p:cNvPr id="12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9F82-0FEC-4A08-9CAB-0D356CEC23F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4"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nd Validation components continue to provide support for expressions specified using OCL™ (via the MDT OCL compon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A5D61-C15A-4D36-832F-02FBE8171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286680"/>
            <a:ext cx="9144000" cy="571320"/>
          </a:xfrm>
          <a:prstGeom prst="rect">
            <a:avLst/>
          </a:prstGeom>
          <a:ln w="0">
            <a:noFill/>
          </a:ln>
        </p:spPr>
      </p:pic>
      <p:sp>
        <p:nvSpPr>
          <p:cNvPr id="12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8" name="" descr=""/>
          <p:cNvPicPr/>
          <p:nvPr/>
        </p:nvPicPr>
        <p:blipFill>
          <a:blip r:embed="rId2"/>
          <a:stretch/>
        </p:blipFill>
        <p:spPr>
          <a:xfrm>
            <a:off x="6024600" y="127080"/>
            <a:ext cx="2928960" cy="1307880"/>
          </a:xfrm>
          <a:prstGeom prst="rect">
            <a:avLst/>
          </a:prstGeom>
          <a:ln w="0">
            <a:noFill/>
          </a:ln>
        </p:spPr>
      </p:pic>
      <p:sp>
        <p:nvSpPr>
          <p:cNvPr id="12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6F3A-455C-44A9-95E6-F7D62F804CA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1"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1485-735F-48A2-BB76-A991056650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286680"/>
            <a:ext cx="9144000" cy="571320"/>
          </a:xfrm>
          <a:prstGeom prst="rect">
            <a:avLst/>
          </a:prstGeom>
          <a:ln w="0">
            <a:noFill/>
          </a:ln>
        </p:spPr>
      </p:pic>
      <p:sp>
        <p:nvSpPr>
          <p:cNvPr id="13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5" name="" descr=""/>
          <p:cNvPicPr/>
          <p:nvPr/>
        </p:nvPicPr>
        <p:blipFill>
          <a:blip r:embed="rId2"/>
          <a:stretch/>
        </p:blipFill>
        <p:spPr>
          <a:xfrm>
            <a:off x="6024600" y="127080"/>
            <a:ext cx="2928960" cy="1307880"/>
          </a:xfrm>
          <a:prstGeom prst="rect">
            <a:avLst/>
          </a:prstGeom>
          <a:ln w="0">
            <a:noFill/>
          </a:ln>
        </p:spPr>
      </p:pic>
      <p:sp>
        <p:nvSpPr>
          <p:cNvPr id="13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ED7B-2970-4418-A42F-D0389A68223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Query, Transaction, and Validation are “+1” components in the simultaneous releas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7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EBADA-51B7-49DB-B054-EC4126F899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6286680"/>
            <a:ext cx="9144000" cy="571320"/>
          </a:xfrm>
          <a:prstGeom prst="rect">
            <a:avLst/>
          </a:prstGeom>
          <a:ln w="0">
            <a:noFill/>
          </a:ln>
        </p:spPr>
      </p:pic>
      <p:sp>
        <p:nvSpPr>
          <p:cNvPr id="14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2" name="" descr=""/>
          <p:cNvPicPr/>
          <p:nvPr/>
        </p:nvPicPr>
        <p:blipFill>
          <a:blip r:embed="rId2"/>
          <a:stretch/>
        </p:blipFill>
        <p:spPr>
          <a:xfrm>
            <a:off x="6024600" y="127080"/>
            <a:ext cx="2928960" cy="1307880"/>
          </a:xfrm>
          <a:prstGeom prst="rect">
            <a:avLst/>
          </a:prstGeom>
          <a:ln w="0">
            <a:noFill/>
          </a:ln>
        </p:spPr>
      </p:pic>
      <p:sp>
        <p:nvSpPr>
          <p:cNvPr id="14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2B22-F1E1-4FD6-AF44-9F0C2CCBAC0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collaboration with GMF project and its cli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0B526-4871-48D4-BE25-570D7FB41A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286680"/>
            <a:ext cx="9144000" cy="571320"/>
          </a:xfrm>
          <a:prstGeom prst="rect">
            <a:avLst/>
          </a:prstGeom>
          <a:ln w="0">
            <a:noFill/>
          </a:ln>
        </p:spPr>
      </p:pic>
      <p:sp>
        <p:nvSpPr>
          <p:cNvPr id="14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9" name="" descr=""/>
          <p:cNvPicPr/>
          <p:nvPr/>
        </p:nvPicPr>
        <p:blipFill>
          <a:blip r:embed="rId2"/>
          <a:stretch/>
        </p:blipFill>
        <p:spPr>
          <a:xfrm>
            <a:off x="6024600" y="127080"/>
            <a:ext cx="2928960" cy="1307880"/>
          </a:xfrm>
          <a:prstGeom prst="rect">
            <a:avLst/>
          </a:prstGeom>
          <a:ln w="0">
            <a:noFill/>
          </a:ln>
        </p:spPr>
      </p:pic>
      <p:sp>
        <p:nvSpPr>
          <p:cNvPr id="15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388A-BAD0-4FE7-82C3-A51901FA487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2" name="PlaceHolder 2"/>
          <p:cNvSpPr>
            <a:spLocks noGrp="1"/>
          </p:cNvSpPr>
          <p:nvPr>
            <p:ph/>
          </p:nvPr>
        </p:nvSpPr>
        <p:spPr>
          <a:xfrm>
            <a:off x="663480" y="1420560"/>
            <a:ext cx="7734240" cy="4825800"/>
          </a:xfrm>
          <a:prstGeom prst="rect">
            <a:avLst/>
          </a:prstGeom>
          <a:noFill/>
          <a:ln w="0">
            <a:noFill/>
          </a:ln>
        </p:spPr>
        <p:txBody>
          <a:bodyPr lIns="50760" rIns="132120" tIns="50760" bIns="50760" anchor="t">
            <a:normAutofit fontScale="98000"/>
          </a:bodyPr>
          <a:p>
            <a:pPr marL="262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MQ/MT/VF component leadership verifies that:</a:t>
            </a:r>
            <a:endParaRPr b="0" lang="en-US" sz="20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project IP log is located at </a:t>
            </a:r>
            <a:r>
              <a:rPr b="0" lang="en-US" sz="2000" spc="-1" strike="noStrike" u="sng">
                <a:solidFill>
                  <a:srgbClr val="009999"/>
                </a:solidFill>
                <a:uFillTx/>
                <a:latin typeface="Arial"/>
                <a:hlinkClick r:id="rId4"/>
              </a:rPr>
              <a:t>http://www.eclipse.org/modeling/emf/eclipse-project-ip-log.csv</a:t>
            </a:r>
            <a:endParaRPr b="0" lang="en-US" sz="20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838F-FE17-4583-91C2-EFD4D0C472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286680"/>
            <a:ext cx="9144000" cy="571320"/>
          </a:xfrm>
          <a:prstGeom prst="rect">
            <a:avLst/>
          </a:prstGeom>
          <a:ln w="0">
            <a:noFill/>
          </a:ln>
        </p:spPr>
      </p:pic>
      <p:sp>
        <p:nvSpPr>
          <p:cNvPr id="15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6" name="" descr=""/>
          <p:cNvPicPr/>
          <p:nvPr/>
        </p:nvPicPr>
        <p:blipFill>
          <a:blip r:embed="rId2"/>
          <a:stretch/>
        </p:blipFill>
        <p:spPr>
          <a:xfrm>
            <a:off x="6024600" y="127080"/>
            <a:ext cx="2928960" cy="1307880"/>
          </a:xfrm>
          <a:prstGeom prst="rect">
            <a:avLst/>
          </a:prstGeom>
          <a:ln w="0">
            <a:noFill/>
          </a:ln>
        </p:spPr>
      </p:pic>
      <p:sp>
        <p:nvSpPr>
          <p:cNvPr id="15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802D-A10F-4FE1-8078-C61780D50CF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5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EMF Query, Transaction, and Validation 1.3.0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72DD3-ED6F-4135-9F49-0FC0F5081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6286680"/>
            <a:ext cx="9144000" cy="571320"/>
          </a:xfrm>
          <a:prstGeom prst="rect">
            <a:avLst/>
          </a:prstGeom>
          <a:ln w="0">
            <a:noFill/>
          </a:ln>
        </p:spPr>
      </p:pic>
      <p:sp>
        <p:nvSpPr>
          <p:cNvPr id="16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3" name="" descr=""/>
          <p:cNvPicPr/>
          <p:nvPr/>
        </p:nvPicPr>
        <p:blipFill>
          <a:blip r:embed="rId2"/>
          <a:stretch/>
        </p:blipFill>
        <p:spPr>
          <a:xfrm>
            <a:off x="6024600" y="127080"/>
            <a:ext cx="2928960" cy="1307880"/>
          </a:xfrm>
          <a:prstGeom prst="rect">
            <a:avLst/>
          </a:prstGeom>
          <a:ln w="0">
            <a:noFill/>
          </a:ln>
        </p:spPr>
      </p:pic>
      <p:sp>
        <p:nvSpPr>
          <p:cNvPr id="16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D78B-CAE6-4157-BE7C-B5760788AC4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is a trademark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64C39-F081-419A-84B1-C53DBD3CFC7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6024600" y="127080"/>
            <a:ext cx="2928960" cy="130788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9F4D-3F5A-478D-84CA-BE448E8DA40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C8612-C56C-4503-B6F6-AFE5E089675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6024600" y="127080"/>
            <a:ext cx="2928960" cy="130788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6BF9-B23E-4DB5-BC31-660EDE90239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47640"/>
            <a:ext cx="7734240" cy="458496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Transaction, Validation 1.2.0 Themes (from EMF)</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Last</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Currenc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ibutors from four organizations (SAP, PrismTech, IBM, student, indepen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BA584-59F9-4016-9C5F-E869E1C974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6024600" y="127080"/>
            <a:ext cx="2928960" cy="130788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C760-A0AC-4353-9659-54C36EA0C21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development plan available at</a:t>
            </a:r>
            <a:br>
              <a:rPr sz="2000"/>
            </a:br>
            <a:r>
              <a:rPr b="0" lang="en-US" sz="2000" spc="-1" strike="noStrike" u="sng">
                <a:solidFill>
                  <a:srgbClr val="009999"/>
                </a:solidFill>
                <a:uFillTx/>
                <a:latin typeface="Arial"/>
                <a:ea typeface="ヒラギノ角ゴ ProN W3"/>
                <a:hlinkClick r:id="rId3"/>
              </a:rPr>
              <a:t>http://www.eclipse.org/modeling/emf/docs/mq-mt-vf/dev-plans/qtv_project_plan_1_2.html</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EMF-QTV_1.2_NandN</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1400" spc="-1" strike="noStrike" u="sng">
                <a:solidFill>
                  <a:srgbClr val="009999"/>
                </a:solidFill>
                <a:uFillTx/>
                <a:latin typeface="Arial"/>
                <a:ea typeface="ヒラギノ角ゴ ProN W3"/>
                <a:hlinkClick r:id="rId5"/>
              </a:rPr>
              <a:t>http://www.eclipse.org/modeling/emf/news/relnotes.php?project=query&amp;version=1.2.x</a:t>
            </a:r>
            <a:r>
              <a:rPr b="0" lang="en-US" sz="1400" spc="-1" strike="noStrike" u="sng">
                <a:solidFill>
                  <a:srgbClr val="009999"/>
                </a:solidFill>
                <a:uFillTx/>
                <a:latin typeface="Arial"/>
                <a:ea typeface="ヒラギノ角ゴ ProN W3"/>
                <a:hlinkClick r:id="rId6"/>
              </a:rPr>
              <a:t>_x000b_</a:t>
            </a:r>
            <a:r>
              <a:rPr b="0" lang="en-US" sz="1400" spc="-1" strike="noStrike" u="sng">
                <a:solidFill>
                  <a:srgbClr val="009999"/>
                </a:solidFill>
                <a:uFillTx/>
                <a:latin typeface="Arial"/>
                <a:ea typeface="ヒラギノ角ゴ ProN W3"/>
                <a:hlinkClick r:id="rId7"/>
              </a:rPr>
              <a:t>http://www.eclipse.org/modeling/emf/news/relnotes.php?project=transaction&amp;version=1.2.</a:t>
            </a:r>
            <a:r>
              <a:rPr b="0" lang="en-US" sz="1400" spc="-1" strike="noStrike" u="sng">
                <a:solidFill>
                  <a:srgbClr val="0812ff"/>
                </a:solidFill>
                <a:uFillTx/>
                <a:latin typeface="Arial"/>
              </a:rPr>
              <a:t>x</a:t>
            </a:r>
            <a:r>
              <a:rPr b="0" lang="en-US" sz="1400" spc="-1" strike="noStrike" u="sng">
                <a:solidFill>
                  <a:srgbClr val="009999"/>
                </a:solidFill>
                <a:uFillTx/>
                <a:latin typeface="Arial"/>
                <a:ea typeface="ヒラギノ角ゴ ProN W3"/>
                <a:hlinkClick r:id="rId8"/>
              </a:rPr>
              <a:t>_x000b_</a:t>
            </a:r>
            <a:r>
              <a:rPr b="0" lang="en-US" sz="1400" spc="-1" strike="noStrike" u="sng">
                <a:solidFill>
                  <a:srgbClr val="009999"/>
                </a:solidFill>
                <a:uFillTx/>
                <a:latin typeface="Arial"/>
                <a:ea typeface="ヒラギノ角ゴ ProN W3"/>
                <a:hlinkClick r:id="rId9"/>
              </a:rPr>
              <a:t>http://www.eclipse.org/modeling/emf/news/relnotes.php?project=validation&amp;version=1.2.</a:t>
            </a:r>
            <a:r>
              <a:rPr b="0" lang="en-US" sz="1400" spc="-1" strike="noStrike" u="sng">
                <a:solidFill>
                  <a:srgbClr val="0812ff"/>
                </a:solidFill>
                <a:uFillTx/>
                <a:latin typeface="Arial"/>
              </a:rPr>
              <a:t>x</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CB6966-259D-462E-9AA6-C406AAC4F3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6024600" y="127080"/>
            <a:ext cx="2928960" cy="130788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F751-758E-4DB4-961E-3033786D0AF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to Last</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Undo/Redo Improvements.</a:t>
            </a:r>
            <a:r>
              <a:rPr b="0" lang="en-US" sz="1800" spc="-1" strike="noStrike">
                <a:solidFill>
                  <a:srgbClr val="000000"/>
                </a:solidFill>
                <a:latin typeface="Arial"/>
              </a:rPr>
              <a:t> Enhancements to transaction undo/redo in support of model refactoring operations.</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Transaction Validate-Edit</a:t>
            </a:r>
            <a:r>
              <a:rPr b="0" lang="en-US" sz="1800" spc="-1" strike="noStrike">
                <a:solidFill>
                  <a:srgbClr val="000000"/>
                </a:solidFill>
                <a:latin typeface="Arial Bold"/>
                <a:ea typeface="Arial Bold"/>
              </a:rPr>
              <a:t>.</a:t>
            </a:r>
            <a:r>
              <a:rPr b="0" lang="en-US" sz="1800" spc="-1" strike="noStrike">
                <a:solidFill>
                  <a:srgbClr val="000000"/>
                </a:solidFill>
                <a:latin typeface="Arial"/>
              </a:rPr>
              <a:t> Integrated validate-edit for modeling applications in an IDE.</a:t>
            </a:r>
            <a:endParaRPr b="0" lang="en-US" sz="18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urrency</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Query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Transac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Valida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661A3-EA27-4BDE-AD83-2CC320BA29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6024600" y="127080"/>
            <a:ext cx="2928960" cy="130788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65FA-3BD0-4B9D-AC0E-4D5D6A982E6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EMF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0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s/plug-ins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54849-9356-4BF3-A5E6-50F33DC93A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6024600" y="127080"/>
            <a:ext cx="2928960" cy="130788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0235-5D7E-4F2C-B5E1-54D25EA1985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417A0-0225-4091-B403-21892C59D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6024600" y="127080"/>
            <a:ext cx="2928960" cy="130788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F374-9AC0-436C-8C1B-CF3845EE937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omponent’s default constraint provider relies on meta-data specified in plugin.xml; overloads the extension registry (scalability iss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34223-775A-4780-8016-6B6242577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6024600" y="127080"/>
            <a:ext cx="2928960" cy="130788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A078-0311-46CD-9454-080E5D9D8F8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o J2SE 5.0 compliance offers improved type safety in the API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E4D5-457B-4FA5-95B6-5902700FB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