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409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409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409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409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409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409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409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409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409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8120" y="60199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666880" y="6629400"/>
            <a:ext cx="373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www.osgi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020000" y="55440"/>
            <a:ext cx="2057400" cy="9972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0"/>
            <a:ext cx="8604360" cy="5493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3333cc">
                  <a:alpha val="91372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OSGi Service Platform @ Java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SGi and AspectJ LT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ombine AspectJ and OSGi in a way tha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You can modularize your system using bund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You can modularize cross-cutting concerns using Aspect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his is done by integrating AspectJ Load-Time Weaving into the OSGi run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undles can export asp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ose aspects can defi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stract aspects (to be used by other bundl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rete aspects that define even cross-bundle pointcu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e runtime takes care that those aspects are woven appropriately into th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SGi and AspectJ LT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mplemented within the Eclipse Equinox Incubator Project „Aspects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-uses completely the weaving implementation of AspectJ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e connection between the Equinox OSGi runtime and the AspectJ 5 weaving implementation is a very small amount of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spects are a great enhancement for OSGi 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re inform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ttp://www.eclipse.org/equinox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artin Lippert: lippert@acm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atthew Webster: matthew_webster@uk.ibm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SGi and Spr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SGi is great to modularize and componentize server-side applications as w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pring is a great framework for implementing lightweight server-side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s it possible and benefical to combine these two technologies? H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SGi and Spr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arly sandbox implementation available (see Spring CV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ombines the OSGi services with Spring be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ans are exportet as OSGi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rvices can be used as beans using a prox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nables dynamic behavior of Spring bean inj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 lot more challan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hat means the dyamic nature of OSGi to other Spring concept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re inform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SGi-Spring integration: http://opensource.atlassian.com/projects/spring/browse/SPR-18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artin Lippert: lippert@acm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4T13:55:56Z</dcterms:created>
  <dc:creator/>
  <dc:description/>
  <dc:language>en-US</dc:language>
  <cp:lastModifiedBy>Martin Lippert</cp:lastModifiedBy>
  <dcterms:modified xsi:type="dcterms:W3CDTF">2006-05-08T20:01:28Z</dcterms:modified>
  <cp:revision>223</cp:revision>
  <dc:subject/>
  <dc:title>OSGi World Congress Presentation Template</dc:title>
</cp:coreProperties>
</file>