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A59-152D-44CD-97C5-E7B0AC86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490-B677-4028-8B0C-85F98110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F9A-348B-4DC0-90F4-53179D6F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033-7BE1-425C-AA48-A8DE67E4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BFE-9C2D-403E-AD5C-E0749657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496F-10C5-4D5F-B9F6-34B653D7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EFF7-7CA3-40DF-8FCF-F834FDC9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9D9-7B8E-4405-AD81-D0275809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6CF-3D1C-4016-A19B-452C64C5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8419-F32D-44D6-8E43-73F2BB6D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F88-CC30-40A1-BE39-4D1DE034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442-7988-49F9-AC60-DA58545E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eclipse.org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62320" y="624492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0992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AC56-2C52-40C5-BC2A-39D5224E32FA}" type="slidenum">
              <a:rPr b="0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b1f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pic>
        <p:nvPicPr>
          <p:cNvPr id="5" name="" descr="Eclip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763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1fe"/>
                </a:solidFill>
                <a:latin typeface="Arial"/>
              </a:rPr>
              <a:t>Eclipse Process Framework (EPF) Project </a:t>
            </a:r>
            <a:br>
              <a:rPr sz="3200"/>
            </a:br>
            <a:endParaRPr b="0" lang="en-US" sz="32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ter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g, June 19-21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b1fe"/>
                </a:solidFill>
                <a:latin typeface="Arial"/>
              </a:rPr>
              <a:t>Thanks for Coming!</a:t>
            </a: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Dickson, Xa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an Holmes, Capgem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son Mansell, 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an-Paul Quenet, 7Ir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 Armstrong, A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m Ruehlin, I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l Chilley, Xa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Strack van Schijndel, Capgem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Kroll, I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es Michielsen, Tele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 Pereira, Whatever Consult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 Williams, Tele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no van der Straaten, LogicaC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l Fish, Capgem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w Craddock, DS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in Cassi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Framework (EPF) Project - Bilbao Committer Meetin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575-E20E-475A-A85A-B3EE4A250AC9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6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b1fe"/>
                </a:solidFill>
                <a:latin typeface="Arial"/>
              </a:rPr>
              <a:t>Meeting Objectives</a:t>
            </a: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working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to know each other, build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each others 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what current statu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s been done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what is left to do for EPF v1.0 in Sept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working sessions allowing progress on relevant EPF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UP/Basic – strong focus on getting EPF v1.0 out the 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on how we can improve EPF / Open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ki, usabilit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how to build European developer and user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mass develop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projects using E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Framework (EPF) Project - Bilbao Committer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98C0-D979-42BF-AB5B-5125CE140F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6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b1fe"/>
                </a:solidFill>
                <a:latin typeface="Arial"/>
              </a:rPr>
              <a:t>Meeting Parameters</a:t>
            </a: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da is dyna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should be on meeting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nts have widely different starting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eed to find the compromises to make this a useful meeting for every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eed to focus on getting EPF v1.0 out in Sep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Etiqu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ooms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ls and cof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ffe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ch: ~noon in cafe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m Dinner: Mon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be 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use a parking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, rather than be he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Framework (EPF) Project - Bilbao Committer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045-3EE1-4A0F-BE2B-9BE549C63E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6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b1fe"/>
                </a:solidFill>
                <a:latin typeface="Arial"/>
              </a:rPr>
              <a:t>Suggested Agenda – Day 1</a:t>
            </a: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:00 – 9:30  Welcome and informal introd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 (Ma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&amp; agenda (P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ound the room introduction, name, company, interest 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:30 – 10:30  Current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project (P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UP Disciplines / Packages - (Package lead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:30 – 12:00  Presentation walkthrough of OpenUP / MDA (Jas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been done s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:00 – 13:00  Lu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ile status / work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:00 – 13:30  Deployment (A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:30 – 15:00   What is left to be done for EPF v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each discipline / package to identify what is left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o make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:00 –  15:30  Br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:30 – 17:00 Project Management Walkthrough (Chr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tifacts do we have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we using them in the OpenUP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:00 –             Team dinner, socia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Framework (EPF) Project - Bilbao Committer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EA5D-8DFA-4FD3-BFA3-F16004ABB1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6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b1fe"/>
                </a:solidFill>
                <a:latin typeface="Arial"/>
              </a:rPr>
              <a:t>Suggested Agenda – Day 2</a:t>
            </a: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 specific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 import / 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odeling tool to “draft a proces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of using R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ntation and discussion on Wiki &lt;Onno / P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to present results of meeting with Bjorn Freeman-Benson and Ward Cunning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no to present what LogicaCMG has done in this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bility / SP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loyment (A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reach in Europe and bey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and driving successful pilot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ing and writing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uss future meetings and European invol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-to-face meetings (next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format for other mee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hings preventing effective European involv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 on plan for EPF v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does w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th of process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ive vs. “defined” / 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assemble a plug-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uss usability of published 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layout and user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content for new as well as experienced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UP working sessions (Breako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relevant disciplines/ collaboration / M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5400" y="5791320"/>
            <a:ext cx="42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eden beating England in soc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Framework (EPF) Project - Bilbao Committer Meetin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C532-44FD-4D3E-9F6B-B0D4068482A6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6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b1fe"/>
                </a:solidFill>
                <a:latin typeface="Arial"/>
              </a:rPr>
              <a:t>Suggested Agenda – Day 3</a:t>
            </a: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UP working sessions (Break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relevant disciplines/ collaboration / M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future meetings and European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-to-face meetings (next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and format for other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things preventing effective European involv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 on plan for EPF v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does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END - N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Framework (EPF) Project - Bilbao Committer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676-6F5B-44C0-AB1E-9534364AFA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6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b1fe"/>
                </a:solidFill>
                <a:latin typeface="Arial"/>
              </a:rPr>
              <a:t>Parking Lot Issues</a:t>
            </a: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Framework (EPF) Project - Bilbao Committer Meetin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75C-7358-4697-97D0-33E1D8C72AA9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6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22:13:51Z</dcterms:created>
  <dc:creator>Naveena Bereny</dc:creator>
  <dc:description/>
  <dc:language>en-US</dc:language>
  <cp:lastModifiedBy>Per Kroll</cp:lastModifiedBy>
  <dcterms:modified xsi:type="dcterms:W3CDTF">2006-06-20T15:07:27Z</dcterms:modified>
  <cp:revision>205</cp:revision>
  <dc:subject/>
  <dc:title>Process Framework (Beacon) </dc:title>
</cp:coreProperties>
</file>