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C71-4DC3-4BA1-845E-E2A9B69B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1B1-83D5-4A73-9352-D10DA1BE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79F-DCA6-4019-8B04-745C4E4E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C1A-87F1-4403-8821-6DDC126B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FA0-0498-438E-9836-D3052E17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86F-5F2D-4998-8B48-1BBD743A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475-B042-4F7F-BFC9-BBADC9B0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929-A10B-43B8-87F8-19C8EAF4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003-FFA0-4CEF-9B63-369F1F14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E35-01FE-4580-AB82-AD3ABBC2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6F0-BBE1-42E9-8FBC-27036C15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65D-5A50-4A16-B30F-A758943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6A52-829A-4EFE-B760-AB5F70839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5861160"/>
            <a:ext cx="4464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 example of symbol for architecture prin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* example of symbol for balance prin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** example of symbol for evolve prin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08000" y="758880"/>
            <a:ext cx="6191280" cy="4694040"/>
            <a:chOff x="1908000" y="758880"/>
            <a:chExt cx="6191280" cy="4694040"/>
          </a:xfrm>
        </p:grpSpPr>
        <p:sp>
          <p:nvSpPr>
            <p:cNvPr id="43" name=""/>
            <p:cNvSpPr/>
            <p:nvPr/>
          </p:nvSpPr>
          <p:spPr>
            <a:xfrm>
              <a:off x="3924360" y="2852640"/>
              <a:ext cx="107928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720" y="3063960"/>
              <a:ext cx="122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penup lo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00720" y="2276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24360" y="75888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cus 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8000" y="4076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95640" y="5084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olve*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32720" y="306216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lance 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48360" y="33577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00720" y="3933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276720" y="33577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11280" y="3141720"/>
              <a:ext cx="360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95640" y="2708280"/>
              <a:ext cx="144360" cy="431280"/>
              <a:chOff x="2195640" y="2708280"/>
              <a:chExt cx="144360" cy="431280"/>
            </a:xfrm>
          </p:grpSpPr>
          <p:sp>
            <p:nvSpPr>
              <p:cNvPr id="55" name=""/>
              <p:cNvSpPr/>
              <p:nvPr/>
            </p:nvSpPr>
            <p:spPr>
              <a:xfrm>
                <a:off x="2195640" y="2708280"/>
                <a:ext cx="144360" cy="1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195640" y="2869920"/>
                <a:ext cx="144360" cy="269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700360" y="2637000"/>
              <a:ext cx="144360" cy="360360"/>
              <a:chOff x="2700360" y="2637000"/>
              <a:chExt cx="144360" cy="360360"/>
            </a:xfrm>
          </p:grpSpPr>
          <p:sp>
            <p:nvSpPr>
              <p:cNvPr id="58" name=""/>
              <p:cNvSpPr/>
              <p:nvPr/>
            </p:nvSpPr>
            <p:spPr>
              <a:xfrm>
                <a:off x="2700360" y="2637000"/>
                <a:ext cx="144360" cy="135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00360" y="2772000"/>
                <a:ext cx="144360" cy="225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2914560" y="3141720"/>
              <a:ext cx="144360" cy="431280"/>
              <a:chOff x="2914560" y="3141720"/>
              <a:chExt cx="144360" cy="431280"/>
            </a:xfrm>
          </p:grpSpPr>
          <p:sp>
            <p:nvSpPr>
              <p:cNvPr id="61" name=""/>
              <p:cNvSpPr/>
              <p:nvPr/>
            </p:nvSpPr>
            <p:spPr>
              <a:xfrm>
                <a:off x="2914560" y="3141720"/>
                <a:ext cx="144360" cy="1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14560" y="3303360"/>
                <a:ext cx="144360" cy="269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124000" y="3284640"/>
              <a:ext cx="144360" cy="431280"/>
              <a:chOff x="2124000" y="3284640"/>
              <a:chExt cx="144360" cy="431280"/>
            </a:xfrm>
          </p:grpSpPr>
          <p:sp>
            <p:nvSpPr>
              <p:cNvPr id="64" name=""/>
              <p:cNvSpPr/>
              <p:nvPr/>
            </p:nvSpPr>
            <p:spPr>
              <a:xfrm>
                <a:off x="2124000" y="3284640"/>
                <a:ext cx="144360" cy="1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124000" y="3446280"/>
                <a:ext cx="144360" cy="269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556000" y="3573360"/>
              <a:ext cx="144360" cy="431640"/>
              <a:chOff x="2556000" y="3573360"/>
              <a:chExt cx="144360" cy="431640"/>
            </a:xfrm>
          </p:grpSpPr>
          <p:sp>
            <p:nvSpPr>
              <p:cNvPr id="67" name=""/>
              <p:cNvSpPr/>
              <p:nvPr/>
            </p:nvSpPr>
            <p:spPr>
              <a:xfrm>
                <a:off x="2556000" y="3573360"/>
                <a:ext cx="144360" cy="161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556000" y="3735000"/>
                <a:ext cx="144360" cy="270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3995640" y="1157400"/>
              <a:ext cx="968400" cy="9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5796000" y="2739960"/>
              <a:ext cx="10810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724360" y="3789360"/>
              <a:ext cx="136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80000" y="378288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00720" y="371628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3203640" y="4653000"/>
              <a:ext cx="3025800" cy="41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00:02:01Z</dcterms:created>
  <dc:creator>DSV</dc:creator>
  <dc:description/>
  <dc:language>en-US</dc:language>
  <cp:lastModifiedBy>DSV</cp:lastModifiedBy>
  <dcterms:modified xsi:type="dcterms:W3CDTF">2007-04-27T00:06:53Z</dcterms:modified>
  <cp:revision>2</cp:revision>
  <dc:subject/>
  <dc:title>Slide 1</dc:title>
</cp:coreProperties>
</file>