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F43-DB01-41A2-88F6-2C2BCF85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463-10E1-447E-963A-26D921BB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64E-3C66-4752-86AC-87625CEC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DAA-2D0E-48CB-BC87-A53E4AA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57B-FD64-41BD-A6A9-BD154C5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3E5-0E94-4753-B9C6-663A8045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49D-2BD5-48C6-9615-BB96E502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FAE-CA10-4E56-B068-DFE204F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6A0-3549-47D7-B415-33CDA6C8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53E-7E5A-41A2-980E-E191252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851-8CA4-4EB3-862E-43271CD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9FD-DA23-4FCF-BCE1-AE5084D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6791-DA88-45BD-9267-58A54E444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861160"/>
            <a:ext cx="446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 example of symbol for architecture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* example of symbol for balance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** example of symbol for evolve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08000" y="758880"/>
            <a:ext cx="6191280" cy="4694040"/>
            <a:chOff x="1908000" y="758880"/>
            <a:chExt cx="6191280" cy="4694040"/>
          </a:xfrm>
        </p:grpSpPr>
        <p:sp>
          <p:nvSpPr>
            <p:cNvPr id="43" name=""/>
            <p:cNvSpPr/>
            <p:nvPr/>
          </p:nvSpPr>
          <p:spPr>
            <a:xfrm>
              <a:off x="3924360" y="2852640"/>
              <a:ext cx="107928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720" y="3063960"/>
              <a:ext cx="12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penup lo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00720" y="2276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24360" y="75888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cus 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8000" y="4076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95640" y="5084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olve*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32720" y="30621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ance 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48360" y="33577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00720" y="3933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76720" y="33577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11280" y="3141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95640" y="2708280"/>
              <a:ext cx="144360" cy="431280"/>
              <a:chOff x="2195640" y="2708280"/>
              <a:chExt cx="144360" cy="431280"/>
            </a:xfrm>
          </p:grpSpPr>
          <p:sp>
            <p:nvSpPr>
              <p:cNvPr id="55" name=""/>
              <p:cNvSpPr/>
              <p:nvPr/>
            </p:nvSpPr>
            <p:spPr>
              <a:xfrm>
                <a:off x="2195640" y="270828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95640" y="2869920"/>
                <a:ext cx="144360" cy="269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700360" y="2637000"/>
              <a:ext cx="144360" cy="360360"/>
              <a:chOff x="2700360" y="2637000"/>
              <a:chExt cx="144360" cy="360360"/>
            </a:xfrm>
          </p:grpSpPr>
          <p:sp>
            <p:nvSpPr>
              <p:cNvPr id="58" name=""/>
              <p:cNvSpPr/>
              <p:nvPr/>
            </p:nvSpPr>
            <p:spPr>
              <a:xfrm>
                <a:off x="2700360" y="2637000"/>
                <a:ext cx="144360" cy="135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00360" y="2772000"/>
                <a:ext cx="144360" cy="225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914560" y="3141720"/>
              <a:ext cx="144360" cy="431280"/>
              <a:chOff x="2914560" y="3141720"/>
              <a:chExt cx="144360" cy="431280"/>
            </a:xfrm>
          </p:grpSpPr>
          <p:sp>
            <p:nvSpPr>
              <p:cNvPr id="61" name=""/>
              <p:cNvSpPr/>
              <p:nvPr/>
            </p:nvSpPr>
            <p:spPr>
              <a:xfrm>
                <a:off x="2914560" y="314172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4560" y="3303360"/>
                <a:ext cx="144360" cy="269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124000" y="3284640"/>
              <a:ext cx="144360" cy="431280"/>
              <a:chOff x="2124000" y="3284640"/>
              <a:chExt cx="144360" cy="431280"/>
            </a:xfrm>
          </p:grpSpPr>
          <p:sp>
            <p:nvSpPr>
              <p:cNvPr id="64" name=""/>
              <p:cNvSpPr/>
              <p:nvPr/>
            </p:nvSpPr>
            <p:spPr>
              <a:xfrm>
                <a:off x="2124000" y="328464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124000" y="3446280"/>
                <a:ext cx="144360" cy="269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556000" y="3573360"/>
              <a:ext cx="144360" cy="431640"/>
              <a:chOff x="2556000" y="3573360"/>
              <a:chExt cx="144360" cy="431640"/>
            </a:xfrm>
          </p:grpSpPr>
          <p:sp>
            <p:nvSpPr>
              <p:cNvPr id="67" name=""/>
              <p:cNvSpPr/>
              <p:nvPr/>
            </p:nvSpPr>
            <p:spPr>
              <a:xfrm>
                <a:off x="2556000" y="357336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56000" y="3735000"/>
                <a:ext cx="144360" cy="270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995640" y="1157400"/>
              <a:ext cx="968400" cy="9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5796000" y="2739960"/>
              <a:ext cx="10810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724360" y="3789360"/>
              <a:ext cx="136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80000" y="378288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00720" y="371628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3203640" y="4653000"/>
              <a:ext cx="302580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00:02:01Z</dcterms:created>
  <dc:creator>DSV</dc:creator>
  <dc:description/>
  <dc:language>en-US</dc:language>
  <cp:lastModifiedBy>DSV</cp:lastModifiedBy>
  <dcterms:modified xsi:type="dcterms:W3CDTF">2007-04-27T00:06:53Z</dcterms:modified>
  <cp:revision>2</cp:revision>
  <dc:subject/>
  <dc:title>Slide 1</dc:title>
</cp:coreProperties>
</file>