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5"/>
          </p:nvPr>
        </p:nvSpPr>
        <p:spPr>
          <a:xfrm>
            <a:off x="4143240" y="0"/>
            <a:ext cx="3168720" cy="480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5293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5293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6"/>
          </p:nvPr>
        </p:nvSpPr>
        <p:spPr>
          <a:xfrm>
            <a:off x="0" y="9119880"/>
            <a:ext cx="3168720" cy="477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7"/>
          </p:nvPr>
        </p:nvSpPr>
        <p:spPr>
          <a:xfrm>
            <a:off x="4143240" y="9119880"/>
            <a:ext cx="3168720" cy="47772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7C34304C-434A-45B8-BBAE-04A045687F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erence implementation can be in Eclip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31880" y="4562640"/>
            <a:ext cx="5851440" cy="431928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2040" cy="360036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5040" rIns="9504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Move to backgr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2DDD8-E9AE-48AA-9AD4-531FC851101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23880" y="565200"/>
            <a:ext cx="7315200" cy="9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600" spc="-1" strike="noStrike">
              <a:solidFill>
                <a:srgbClr val="00529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12280" y="1598760"/>
            <a:ext cx="7791480" cy="22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2280" y="4064760"/>
            <a:ext cx="7791480" cy="22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516F6-576A-4D8A-BB73-B1A8732F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3880" y="565200"/>
            <a:ext cx="7315200" cy="9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600" spc="-1" strike="noStrike">
              <a:solidFill>
                <a:srgbClr val="00529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12280" y="1598760"/>
            <a:ext cx="3801960" cy="22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04680" y="1598760"/>
            <a:ext cx="3801960" cy="22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12280" y="4064760"/>
            <a:ext cx="3801960" cy="22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04680" y="4064760"/>
            <a:ext cx="3801960" cy="22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08DF3-8C2E-4C5C-887B-EBDEBA8E7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23880" y="565200"/>
            <a:ext cx="7315200" cy="9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600" spc="-1" strike="noStrike">
              <a:solidFill>
                <a:srgbClr val="00529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12280" y="1598760"/>
            <a:ext cx="2508480" cy="22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46400" y="1598760"/>
            <a:ext cx="2508480" cy="22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780880" y="1598760"/>
            <a:ext cx="2508480" cy="22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12280" y="4064760"/>
            <a:ext cx="2508480" cy="22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46400" y="4064760"/>
            <a:ext cx="2508480" cy="22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780880" y="4064760"/>
            <a:ext cx="2508480" cy="22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EF565-593B-4212-B8F2-B1D8EE6E1C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3880" y="565200"/>
            <a:ext cx="7315200" cy="9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600" spc="-1" strike="noStrike">
              <a:solidFill>
                <a:srgbClr val="00529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12280" y="1598760"/>
            <a:ext cx="779148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3880" y="565200"/>
            <a:ext cx="7315200" cy="9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600" spc="-1" strike="noStrike">
              <a:solidFill>
                <a:srgbClr val="00529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12280" y="1598760"/>
            <a:ext cx="779148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3880" y="565200"/>
            <a:ext cx="7315200" cy="9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600" spc="-1" strike="noStrike">
              <a:solidFill>
                <a:srgbClr val="00529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12280" y="1598760"/>
            <a:ext cx="38019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04680" y="1598760"/>
            <a:ext cx="38019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3880" y="565200"/>
            <a:ext cx="7315200" cy="9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600" spc="-1" strike="noStrike">
              <a:solidFill>
                <a:srgbClr val="005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23880" y="565200"/>
            <a:ext cx="7315200" cy="42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3880" y="565200"/>
            <a:ext cx="7315200" cy="9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600" spc="-1" strike="noStrike">
              <a:solidFill>
                <a:srgbClr val="00529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12280" y="1598760"/>
            <a:ext cx="3801960" cy="22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04680" y="1598760"/>
            <a:ext cx="38019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2280" y="4064760"/>
            <a:ext cx="3801960" cy="22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23880" y="565200"/>
            <a:ext cx="7315200" cy="9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600" spc="-1" strike="noStrike">
              <a:solidFill>
                <a:srgbClr val="00529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12280" y="1598760"/>
            <a:ext cx="7791480" cy="472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1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B48D95-6901-4E25-80EB-74353BBB9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3880" y="565200"/>
            <a:ext cx="7315200" cy="9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600" spc="-1" strike="noStrike">
              <a:solidFill>
                <a:srgbClr val="00529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12280" y="1598760"/>
            <a:ext cx="38019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04680" y="1598760"/>
            <a:ext cx="3801960" cy="22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04680" y="4064760"/>
            <a:ext cx="3801960" cy="22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3880" y="565200"/>
            <a:ext cx="7315200" cy="9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600" spc="-1" strike="noStrike">
              <a:solidFill>
                <a:srgbClr val="00529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12280" y="1598760"/>
            <a:ext cx="3801960" cy="22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04680" y="1598760"/>
            <a:ext cx="3801960" cy="22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2280" y="4064760"/>
            <a:ext cx="7791480" cy="22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23880" y="565200"/>
            <a:ext cx="7315200" cy="9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600" spc="-1" strike="noStrike">
              <a:solidFill>
                <a:srgbClr val="00529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12280" y="1598760"/>
            <a:ext cx="7791480" cy="22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2280" y="4064760"/>
            <a:ext cx="7791480" cy="22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3880" y="565200"/>
            <a:ext cx="7315200" cy="9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600" spc="-1" strike="noStrike">
              <a:solidFill>
                <a:srgbClr val="00529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2280" y="1598760"/>
            <a:ext cx="3801960" cy="22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04680" y="1598760"/>
            <a:ext cx="3801960" cy="22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12280" y="4064760"/>
            <a:ext cx="3801960" cy="22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04680" y="4064760"/>
            <a:ext cx="3801960" cy="22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3880" y="565200"/>
            <a:ext cx="7315200" cy="9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600" spc="-1" strike="noStrike">
              <a:solidFill>
                <a:srgbClr val="00529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12280" y="1598760"/>
            <a:ext cx="2508480" cy="22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146400" y="1598760"/>
            <a:ext cx="2508480" cy="22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780880" y="1598760"/>
            <a:ext cx="2508480" cy="22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2280" y="4064760"/>
            <a:ext cx="2508480" cy="22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146400" y="4064760"/>
            <a:ext cx="2508480" cy="22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780880" y="4064760"/>
            <a:ext cx="2508480" cy="22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3880" y="565200"/>
            <a:ext cx="7315200" cy="9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600" spc="-1" strike="noStrike">
              <a:solidFill>
                <a:srgbClr val="00529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12280" y="1598760"/>
            <a:ext cx="779148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FAB6A-1CD7-4C99-B972-1CBCD6C3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3880" y="565200"/>
            <a:ext cx="7315200" cy="9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600" spc="-1" strike="noStrike">
              <a:solidFill>
                <a:srgbClr val="00529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12280" y="1598760"/>
            <a:ext cx="38019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04680" y="1598760"/>
            <a:ext cx="38019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3B38F-DE12-4C00-9FB9-1D325A2B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3880" y="565200"/>
            <a:ext cx="7315200" cy="9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600" spc="-1" strike="noStrike">
              <a:solidFill>
                <a:srgbClr val="005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49824-4D9C-4931-8751-19E5F981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23880" y="565200"/>
            <a:ext cx="7315200" cy="426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100" spc="-1" strike="noStrike">
              <a:solidFill>
                <a:srgbClr val="58595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024AD-E10E-4148-95CD-18DF49D31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23880" y="565200"/>
            <a:ext cx="7315200" cy="9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600" spc="-1" strike="noStrike">
              <a:solidFill>
                <a:srgbClr val="00529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12280" y="1598760"/>
            <a:ext cx="3801960" cy="22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04680" y="1598760"/>
            <a:ext cx="38019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2280" y="4064760"/>
            <a:ext cx="3801960" cy="22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BD454F-9942-49A6-A21B-B281DFEA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3880" y="565200"/>
            <a:ext cx="7315200" cy="9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600" spc="-1" strike="noStrike">
              <a:solidFill>
                <a:srgbClr val="00529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12280" y="1598760"/>
            <a:ext cx="38019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04680" y="1598760"/>
            <a:ext cx="3801960" cy="22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04680" y="4064760"/>
            <a:ext cx="3801960" cy="22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AE490B-725E-416A-93D2-E2D80CDD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23880" y="565200"/>
            <a:ext cx="7315200" cy="9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3600" spc="-1" strike="noStrike">
              <a:solidFill>
                <a:srgbClr val="00529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12280" y="1598760"/>
            <a:ext cx="3801960" cy="22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04680" y="1598760"/>
            <a:ext cx="3801960" cy="22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12280" y="4064760"/>
            <a:ext cx="7791480" cy="225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E3678-BE31-44E0-A1CE-45549CAB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3880" y="565200"/>
            <a:ext cx="7315200" cy="9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600" spc="-1" strike="noStrike">
                <a:solidFill>
                  <a:srgbClr val="00529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529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12280" y="1598760"/>
            <a:ext cx="779148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b00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46474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0ab00"/>
              </a:buClr>
              <a:buSzPct val="125000"/>
              <a:buFont typeface="Arial"/>
              <a:buChar char="•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46474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  <a:p>
            <a:pPr lvl="2" marL="1141560" indent="-225720">
              <a:spcBef>
                <a:spcPts val="700"/>
              </a:spcBef>
              <a:buClr>
                <a:srgbClr val="f0ab00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46474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0ab00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46474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0ab00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46474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46474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800" spc="-1" strike="noStrike">
                <a:solidFill>
                  <a:srgbClr val="46474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710320" y="6366960"/>
            <a:ext cx="1087200" cy="4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900" spc="-1" strike="noStrike">
                <a:solidFill>
                  <a:srgbClr val="9799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900" spc="-1" strike="noStrike">
                <a:solidFill>
                  <a:srgbClr val="97999c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4125960" y="6347880"/>
            <a:ext cx="877680" cy="476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lstStyle>
            <a:lvl1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1" lang="en-US" sz="900" spc="-1" strike="noStrike">
                <a:solidFill>
                  <a:srgbClr val="7396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79C8885-3370-4F0B-9587-E4077BD5E62A}" type="slidenum">
              <a:rPr b="1" lang="en-US" sz="900" spc="-1" strike="noStrike">
                <a:solidFill>
                  <a:srgbClr val="7396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0680"/>
            <a:ext cx="609624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422280"/>
            <a:ext cx="6742080" cy="1440"/>
          </a:xfrm>
          <a:prstGeom prst="line">
            <a:avLst/>
          </a:prstGeom>
          <a:ln w="19080">
            <a:solidFill>
              <a:srgbClr val="f0a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6872400" y="325440"/>
            <a:ext cx="0" cy="228600"/>
          </a:xfrm>
          <a:prstGeom prst="line">
            <a:avLst/>
          </a:prstGeom>
          <a:ln w="28440">
            <a:solidFill>
              <a:srgbClr val="f0a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8839080" y="318960"/>
            <a:ext cx="0" cy="228600"/>
          </a:xfrm>
          <a:prstGeom prst="line">
            <a:avLst/>
          </a:prstGeom>
          <a:ln w="28440">
            <a:solidFill>
              <a:srgbClr val="f0a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6918480" y="345960"/>
            <a:ext cx="223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93600"/>
                <a:tab algn="l" pos="1987560"/>
                <a:tab algn="l" pos="2981160"/>
                <a:tab algn="l" pos="3975120"/>
                <a:tab algn="l" pos="4968720"/>
                <a:tab algn="l" pos="5962680"/>
                <a:tab algn="l" pos="6956280"/>
                <a:tab algn="l" pos="7950240"/>
                <a:tab algn="l" pos="8943840"/>
                <a:tab algn="l" pos="9937800"/>
                <a:tab algn="l" pos="10931400"/>
              </a:tabLst>
            </a:pPr>
            <a:r>
              <a:rPr b="0" lang="en-US" sz="800" spc="-1" strike="noStrike">
                <a:solidFill>
                  <a:srgbClr val="f0ab00"/>
                </a:solidFill>
                <a:latin typeface="Arial"/>
              </a:rPr>
              <a:t>the dynamic module system for Jav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8085240" y="6338880"/>
            <a:ext cx="1036440" cy="507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79400" y="1912680"/>
            <a:ext cx="75564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5293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529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3"/>
          </p:nvPr>
        </p:nvSpPr>
        <p:spPr>
          <a:xfrm>
            <a:off x="7440120" y="5949720"/>
            <a:ext cx="146052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700" spc="-1" strike="noStrike">
                <a:solidFill>
                  <a:srgbClr val="97999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700" spc="-1" strike="noStrike">
                <a:solidFill>
                  <a:srgbClr val="97999c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4"/>
          </p:nvPr>
        </p:nvSpPr>
        <p:spPr>
          <a:xfrm>
            <a:off x="246240" y="6438600"/>
            <a:ext cx="717048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700" spc="-1" strike="noStrike">
                <a:solidFill>
                  <a:srgbClr val="9799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700" spc="-1" strike="noStrike">
                <a:solidFill>
                  <a:srgbClr val="97999c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160" y="6532560"/>
            <a:ext cx="7291080" cy="1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4240" rIns="84240" tIns="42120" bIns="42120"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700" spc="-1" strike="noStrike">
                <a:solidFill>
                  <a:srgbClr val="97999c"/>
                </a:solidFill>
                <a:latin typeface="Arial"/>
              </a:rPr>
              <a:t>COPYRIGHT © 2007 OSGi Alliance. All Rights Reserved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25800" y="434880"/>
            <a:ext cx="4114800" cy="0"/>
          </a:xfrm>
          <a:prstGeom prst="line">
            <a:avLst/>
          </a:prstGeom>
          <a:ln w="19080">
            <a:solidFill>
              <a:srgbClr val="f0a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38960" y="325440"/>
            <a:ext cx="0" cy="228600"/>
          </a:xfrm>
          <a:prstGeom prst="line">
            <a:avLst/>
          </a:prstGeom>
          <a:ln w="28440">
            <a:solidFill>
              <a:srgbClr val="f0a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839080" y="318960"/>
            <a:ext cx="0" cy="228600"/>
          </a:xfrm>
          <a:prstGeom prst="line">
            <a:avLst/>
          </a:prstGeom>
          <a:ln w="28440">
            <a:solidFill>
              <a:srgbClr val="f0a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28960" y="320760"/>
            <a:ext cx="2236320" cy="2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93600"/>
                <a:tab algn="l" pos="1987560"/>
                <a:tab algn="l" pos="2981160"/>
                <a:tab algn="l" pos="3975120"/>
                <a:tab algn="l" pos="4968720"/>
                <a:tab algn="l" pos="5962680"/>
                <a:tab algn="l" pos="6956280"/>
                <a:tab algn="l" pos="7950240"/>
                <a:tab algn="l" pos="8943840"/>
                <a:tab algn="l" pos="9937800"/>
                <a:tab algn="l" pos="10931400"/>
              </a:tabLst>
            </a:pPr>
            <a:r>
              <a:rPr b="0" lang="en-US" sz="1000" spc="-1" strike="noStrike">
                <a:solidFill>
                  <a:srgbClr val="f0ab00"/>
                </a:solidFill>
                <a:latin typeface="Arial"/>
              </a:rPr>
              <a:t>the dynamic module system for Jav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5440" y="44280"/>
            <a:ext cx="1997280" cy="97812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100" spc="-1" strike="noStrike">
                <a:solidFill>
                  <a:srgbClr val="58595b"/>
                </a:solidFill>
                <a:latin typeface="Arial"/>
              </a:rPr>
              <a:t>Click to edit the outline text format</a:t>
            </a:r>
            <a:endParaRPr b="0" lang="en-US" sz="2100" spc="-1" strike="noStrike">
              <a:solidFill>
                <a:srgbClr val="58595b"/>
              </a:solidFill>
              <a:latin typeface="Arial"/>
            </a:endParaRPr>
          </a:p>
          <a:p>
            <a:pPr lvl="1" marL="411120" indent="0" algn="ctr">
              <a:spcBef>
                <a:spcPts val="601"/>
              </a:spcBef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2400" spc="-1" strike="noStrike">
                <a:solidFill>
                  <a:srgbClr val="46474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64749"/>
              </a:solidFill>
              <a:latin typeface="Arial"/>
            </a:endParaRPr>
          </a:p>
          <a:p>
            <a:pPr lvl="2" marL="820800" indent="95040" algn="ctr">
              <a:spcBef>
                <a:spcPts val="476"/>
              </a:spcBef>
              <a:buClr>
                <a:srgbClr val="f0ab00"/>
              </a:buClr>
              <a:buFont typeface="Wingdings" charset="2"/>
              <a:buChar char="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900" spc="-1" strike="noStrike">
                <a:solidFill>
                  <a:srgbClr val="464749"/>
                </a:solidFill>
                <a:latin typeface="Arial"/>
              </a:rPr>
              <a:t>Third Outline Level</a:t>
            </a:r>
            <a:endParaRPr b="0" lang="en-US" sz="1900" spc="-1" strike="noStrike">
              <a:solidFill>
                <a:srgbClr val="464749"/>
              </a:solidFill>
              <a:latin typeface="Arial"/>
            </a:endParaRPr>
          </a:p>
          <a:p>
            <a:pPr lvl="3" marL="1230480" indent="141120" algn="ctr">
              <a:spcBef>
                <a:spcPts val="425"/>
              </a:spcBef>
              <a:buClr>
                <a:srgbClr val="f0ab00"/>
              </a:buClr>
              <a:buFont typeface="Wingdings" charset="2"/>
              <a:buChar char=""/>
              <a:tabLst>
                <a:tab algn="l" pos="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700" spc="-1" strike="noStrike">
                <a:solidFill>
                  <a:srgbClr val="464749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464749"/>
              </a:solidFill>
              <a:latin typeface="Arial"/>
            </a:endParaRPr>
          </a:p>
          <a:p>
            <a:pPr lvl="4" marL="1639800" indent="189000" algn="ctr">
              <a:spcBef>
                <a:spcPts val="425"/>
              </a:spcBef>
              <a:buClr>
                <a:srgbClr val="f0ab00"/>
              </a:buClr>
              <a:buFont typeface="Wingdings" charset="2"/>
              <a:buChar char=""/>
              <a:tabLst>
                <a:tab algn="l" pos="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700" spc="-1" strike="noStrike">
                <a:solidFill>
                  <a:srgbClr val="464749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464749"/>
              </a:solidFill>
              <a:latin typeface="Arial"/>
            </a:endParaRPr>
          </a:p>
          <a:p>
            <a:pPr lvl="5" marL="1639800" indent="18900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749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464749"/>
              </a:solidFill>
              <a:latin typeface="Arial"/>
            </a:endParaRPr>
          </a:p>
          <a:p>
            <a:pPr lvl="6" marL="1639800" indent="189000"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464749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46474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79400" y="1912680"/>
            <a:ext cx="7556400" cy="74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3600" spc="-1" strike="noStrike">
                <a:solidFill>
                  <a:srgbClr val="005293"/>
                </a:solidFill>
                <a:latin typeface="Arial"/>
                <a:ea typeface="MS PGothic"/>
              </a:rPr>
              <a:t>eRCP Standardization Proposal</a:t>
            </a:r>
            <a:endParaRPr b="0" lang="en-US" sz="3600" spc="-1" strike="noStrike">
              <a:solidFill>
                <a:srgbClr val="00529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74640" y="5340240"/>
            <a:ext cx="5943600" cy="7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2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700" spc="-1" strike="noStrike">
                <a:solidFill>
                  <a:srgbClr val="58595b"/>
                </a:solidFill>
                <a:latin typeface="Arial"/>
              </a:rPr>
              <a:t>BJ Hargrave, OSGi CTO</a:t>
            </a:r>
            <a:endParaRPr b="0" lang="en-US" sz="1700" spc="-1" strike="noStrike">
              <a:solidFill>
                <a:srgbClr val="58595b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700" spc="-1" strike="noStrike">
                <a:solidFill>
                  <a:srgbClr val="58595b"/>
                </a:solidFill>
                <a:latin typeface="Arial"/>
              </a:rPr>
              <a:t>Susan Schwarze, OSGi Director</a:t>
            </a:r>
            <a:endParaRPr b="0" lang="en-US" sz="1700" spc="-1" strike="noStrike">
              <a:solidFill>
                <a:srgbClr val="58595b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700" spc="-1" strike="noStrike">
                <a:solidFill>
                  <a:srgbClr val="58595b"/>
                </a:solidFill>
                <a:latin typeface="Arial"/>
              </a:rPr>
              <a:t>February 12, 2008</a:t>
            </a:r>
            <a:endParaRPr b="0" lang="en-US" sz="1700" spc="-1" strike="noStrike">
              <a:solidFill>
                <a:srgbClr val="58595b"/>
              </a:solidFill>
              <a:latin typeface="Arial"/>
            </a:endParaRPr>
          </a:p>
          <a:p>
            <a:pPr indent="0">
              <a:spcBef>
                <a:spcPts val="425"/>
              </a:spcBef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1700" spc="-1" strike="noStrike">
              <a:solidFill>
                <a:srgbClr val="58595b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3880" y="565200"/>
            <a:ext cx="7315200" cy="9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600" spc="-1" strike="noStrike">
                <a:solidFill>
                  <a:srgbClr val="005293"/>
                </a:solidFill>
                <a:latin typeface="Arial"/>
              </a:rPr>
              <a:t>Why is eRCP important?</a:t>
            </a:r>
            <a:endParaRPr b="0" lang="en-US" sz="3600" spc="-1" strike="noStrike">
              <a:solidFill>
                <a:srgbClr val="005293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568000" cy="474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Aft>
                <a:spcPts val="1400"/>
              </a:spcAft>
              <a:buClr>
                <a:srgbClr val="f0a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749"/>
                </a:solidFill>
                <a:latin typeface="Arial"/>
              </a:rPr>
              <a:t>There are a </a:t>
            </a:r>
            <a:r>
              <a:rPr b="1" lang="en-US" sz="3600" spc="-1" strike="noStrike">
                <a:solidFill>
                  <a:srgbClr val="005293"/>
                </a:solidFill>
                <a:latin typeface="Comic Sans MS"/>
              </a:rPr>
              <a:t>HUGE</a:t>
            </a:r>
            <a:r>
              <a:rPr b="0" lang="en-US" sz="2800" spc="-1" strike="noStrike">
                <a:solidFill>
                  <a:srgbClr val="464749"/>
                </a:solidFill>
                <a:latin typeface="Arial"/>
              </a:rPr>
              <a:t> number of devices out there that are becoming quite capable Java application platforms</a:t>
            </a: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f0a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749"/>
                </a:solidFill>
                <a:latin typeface="Arial"/>
              </a:rPr>
              <a:t>Brings OSGi to devices</a:t>
            </a: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  <a:p>
            <a:pPr lvl="1" marL="75096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464749"/>
              </a:solidFill>
              <a:latin typeface="Arial"/>
            </a:endParaRPr>
          </a:p>
          <a:p>
            <a:pPr marL="228600" indent="-228600">
              <a:spcAft>
                <a:spcPts val="1400"/>
              </a:spcAft>
              <a:buClr>
                <a:srgbClr val="f0a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749"/>
                </a:solidFill>
                <a:latin typeface="Arial"/>
              </a:rPr>
              <a:t>Has extensive rich UI capabilities</a:t>
            </a: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  <a:p>
            <a:pPr marL="228600" indent="-228600">
              <a:spcAft>
                <a:spcPts val="1400"/>
              </a:spcAft>
              <a:buClr>
                <a:srgbClr val="f0a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749"/>
                </a:solidFill>
                <a:latin typeface="Arial"/>
              </a:rPr>
              <a:t>Higher level of device abstraction and integration</a:t>
            </a: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  <a:p>
            <a:pPr marL="228600" indent="-228600">
              <a:spcAft>
                <a:spcPts val="1400"/>
              </a:spcAft>
              <a:buClr>
                <a:srgbClr val="f0a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749"/>
                </a:solidFill>
                <a:latin typeface="Arial"/>
              </a:rPr>
              <a:t>eRCP can be the next mobile Java standard</a:t>
            </a: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  <a:p>
            <a:pPr marL="228600" indent="-228600">
              <a:spcAft>
                <a:spcPts val="1400"/>
              </a:spcAft>
              <a:buClr>
                <a:srgbClr val="f0a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749"/>
                </a:solidFill>
                <a:latin typeface="Arial"/>
              </a:rPr>
              <a:t>Great platform for mobile mash-ups</a:t>
            </a: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BEBFA4-82AA-477D-85BC-C7F0F6AEE2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3880" y="565200"/>
            <a:ext cx="7315200" cy="9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600" spc="-1" strike="noStrike">
                <a:solidFill>
                  <a:srgbClr val="005293"/>
                </a:solidFill>
                <a:latin typeface="Arial"/>
              </a:rPr>
              <a:t>Why standardize eRCP?</a:t>
            </a:r>
            <a:endParaRPr b="0" lang="en-US" sz="3600" spc="-1" strike="noStrike">
              <a:solidFill>
                <a:srgbClr val="00529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2000" y="1219320"/>
            <a:ext cx="8705880" cy="51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601"/>
              </a:spcBef>
              <a:buClr>
                <a:srgbClr val="f0a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749"/>
                </a:solidFill>
                <a:latin typeface="Arial"/>
              </a:rPr>
              <a:t>Given the broad range of phones, service providers do not typically implement platforms themselves. They spec requirements and look for partners to implement their spec</a:t>
            </a:r>
            <a:endParaRPr b="0" lang="en-US" sz="2400" spc="-1" strike="noStrike">
              <a:solidFill>
                <a:srgbClr val="464749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buClr>
                <a:srgbClr val="f0ab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749"/>
                </a:solidFill>
                <a:latin typeface="Arial"/>
              </a:rPr>
              <a:t>They want to be able specify a standard</a:t>
            </a:r>
            <a:endParaRPr b="0" lang="en-US" sz="2000" spc="-1" strike="noStrike">
              <a:solidFill>
                <a:srgbClr val="464749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buClr>
                <a:srgbClr val="f0ab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749"/>
                </a:solidFill>
                <a:latin typeface="Arial"/>
              </a:rPr>
              <a:t>They want to be able to verify the implementation is compliant</a:t>
            </a:r>
            <a:endParaRPr b="0" lang="en-US" sz="2000" spc="-1" strike="noStrike">
              <a:solidFill>
                <a:srgbClr val="464749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buClr>
                <a:srgbClr val="f0ab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749"/>
                </a:solidFill>
                <a:latin typeface="Arial"/>
              </a:rPr>
              <a:t>They do not want competitors introducing non-compliant implementations that devalue the eRCP benefit of being able to run the same binaries across multiple platforms/devices</a:t>
            </a:r>
            <a:endParaRPr b="0" lang="en-US" sz="2000" spc="-1" strike="noStrike">
              <a:solidFill>
                <a:srgbClr val="464749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buClr>
                <a:srgbClr val="f0ab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749"/>
                </a:solidFill>
                <a:latin typeface="Arial"/>
              </a:rPr>
              <a:t>They are fearful that open source projects are too “fluid”</a:t>
            </a:r>
            <a:endParaRPr b="0" lang="en-US" sz="2000" spc="-1" strike="noStrike">
              <a:solidFill>
                <a:srgbClr val="464749"/>
              </a:solidFill>
              <a:latin typeface="Arial"/>
            </a:endParaRPr>
          </a:p>
          <a:p>
            <a:pPr lvl="1" marL="75096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464749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f0a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749"/>
                </a:solidFill>
                <a:latin typeface="Arial"/>
              </a:rPr>
              <a:t>JavaDoc by itself is not sufficient to re-implement eRCP</a:t>
            </a:r>
            <a:endParaRPr b="0" lang="en-US" sz="2400" spc="-1" strike="noStrike">
              <a:solidFill>
                <a:srgbClr val="464749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f0a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749"/>
                </a:solidFill>
                <a:latin typeface="Arial"/>
              </a:rPr>
              <a:t>eRCP does not have a consolidated test suite for all function</a:t>
            </a:r>
            <a:endParaRPr b="0" lang="en-US" sz="2400" spc="-1" strike="noStrike">
              <a:solidFill>
                <a:srgbClr val="464749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f0a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749"/>
                </a:solidFill>
                <a:latin typeface="Arial"/>
              </a:rPr>
              <a:t>Fills gap in current OSGi spec by providing a UI model</a:t>
            </a:r>
            <a:endParaRPr b="0" lang="en-US" sz="2400" spc="-1" strike="noStrike">
              <a:solidFill>
                <a:srgbClr val="464749"/>
              </a:solidFill>
              <a:latin typeface="Arial"/>
            </a:endParaRPr>
          </a:p>
          <a:p>
            <a:pPr marL="228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43CD88-0CC0-4F4C-86D7-E2AE2AE1C2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3880" y="565200"/>
            <a:ext cx="7315200" cy="9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600" spc="-1" strike="noStrike">
                <a:solidFill>
                  <a:srgbClr val="005293"/>
                </a:solidFill>
                <a:latin typeface="Arial"/>
              </a:rPr>
              <a:t>Proposal</a:t>
            </a:r>
            <a:endParaRPr b="0" lang="en-US" sz="3600" spc="-1" strike="noStrike">
              <a:solidFill>
                <a:srgbClr val="005293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3760" y="1447560"/>
            <a:ext cx="865656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0a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749"/>
                </a:solidFill>
                <a:latin typeface="Arial"/>
              </a:rPr>
              <a:t>Have OSGi Alliance standardize eRCP</a:t>
            </a:r>
            <a:endParaRPr b="0" lang="en-US" sz="2400" spc="-1" strike="noStrike">
              <a:solidFill>
                <a:srgbClr val="464749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Aft>
                <a:spcPts val="1500"/>
              </a:spcAft>
              <a:buClr>
                <a:srgbClr val="f0a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749"/>
                </a:solidFill>
                <a:latin typeface="Arial"/>
              </a:rPr>
              <a:t>eRCP would continue to be a subset of RCP so compatibility with RCP is maintained</a:t>
            </a:r>
            <a:endParaRPr b="0" lang="en-US" sz="2400" spc="-1" strike="noStrike">
              <a:solidFill>
                <a:srgbClr val="464749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0a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749"/>
                </a:solidFill>
                <a:latin typeface="Arial"/>
              </a:rPr>
              <a:t>Provide API spec with additional detail not in current JavaDoc to enable independent implementations of eRCP</a:t>
            </a:r>
            <a:endParaRPr b="0" lang="en-US" sz="2400" spc="-1" strike="noStrike">
              <a:solidFill>
                <a:srgbClr val="464749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0a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749"/>
                </a:solidFill>
                <a:latin typeface="Arial"/>
              </a:rPr>
              <a:t>Collect test suites from platform components, fill in what’s missing, and consolidate into Compliance Tests (TCK)</a:t>
            </a:r>
            <a:endParaRPr b="0" lang="en-US" sz="2400" spc="-1" strike="noStrike">
              <a:solidFill>
                <a:srgbClr val="464749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0a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749"/>
                </a:solidFill>
                <a:latin typeface="Arial"/>
              </a:rPr>
              <a:t>Implementations with additional function could still be compliant</a:t>
            </a:r>
            <a:endParaRPr b="0" lang="en-US" sz="2400" spc="-1" strike="noStrike">
              <a:solidFill>
                <a:srgbClr val="464749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0a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749"/>
                </a:solidFill>
                <a:latin typeface="Arial"/>
              </a:rPr>
              <a:t>Supported by Sprint, ProSyst, Nokia, IBM</a:t>
            </a:r>
            <a:endParaRPr b="0" lang="en-US" sz="24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37921-4E6C-4FD4-9C31-166BD6DC414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23880" y="565200"/>
            <a:ext cx="7315200" cy="9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600" spc="-1" strike="noStrike">
                <a:solidFill>
                  <a:srgbClr val="005293"/>
                </a:solidFill>
                <a:latin typeface="Arial"/>
              </a:rPr>
              <a:t>Branding</a:t>
            </a:r>
            <a:endParaRPr b="0" lang="en-US" sz="3600" spc="-1" strike="noStrike">
              <a:solidFill>
                <a:srgbClr val="005293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154620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1447920"/>
            <a:ext cx="7997760" cy="33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457200" indent="-457200">
              <a:spcAft>
                <a:spcPts val="1199"/>
              </a:spcAft>
              <a:buClr>
                <a:srgbClr val="f0a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749"/>
                </a:solidFill>
                <a:latin typeface="Arial"/>
              </a:rPr>
              <a:t>"Service Platform" is an implied brand that carries a specific value pro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f0a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749"/>
                </a:solidFill>
                <a:latin typeface="Arial"/>
              </a:rPr>
              <a:t>This value proposition differs from the one that would exist for an OSGi spec we develop for any pre-existing open source projec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Aft>
                <a:spcPts val="1199"/>
              </a:spcAft>
              <a:buClr>
                <a:srgbClr val="f0a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749"/>
                </a:solidFill>
                <a:latin typeface="Arial"/>
              </a:rPr>
              <a:t>Therefore the OSGi Alliance may want to consider a new brand specifically for use with specs based on open source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4F4B9-158B-4EE0-8881-F6934D921B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23880" y="565200"/>
            <a:ext cx="7315200" cy="9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600" spc="-1" strike="noStrike">
                <a:solidFill>
                  <a:srgbClr val="005293"/>
                </a:solidFill>
                <a:latin typeface="Arial"/>
              </a:rPr>
              <a:t>Licensing</a:t>
            </a:r>
            <a:endParaRPr b="0" lang="en-US" sz="3600" spc="-1" strike="noStrike">
              <a:solidFill>
                <a:srgbClr val="00529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369280" cy="44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80000"/>
              </a:lnSpc>
              <a:spcAft>
                <a:spcPts val="1500"/>
              </a:spcAft>
              <a:buClr>
                <a:srgbClr val="f0a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749"/>
                </a:solidFill>
                <a:latin typeface="Arial"/>
              </a:rPr>
              <a:t>Spec would need new license model</a:t>
            </a:r>
            <a:endParaRPr b="0" lang="en-US" sz="2400" spc="-1" strike="noStrike">
              <a:solidFill>
                <a:srgbClr val="464749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Aft>
                <a:spcPts val="1125"/>
              </a:spcAft>
              <a:buClr>
                <a:srgbClr val="f0ab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749"/>
                </a:solidFill>
                <a:latin typeface="Arial"/>
              </a:rPr>
              <a:t>Spec would contain Eclipse materials under EPL that would remain under EPL</a:t>
            </a:r>
            <a:endParaRPr b="0" lang="en-US" sz="1800" spc="-1" strike="noStrike">
              <a:solidFill>
                <a:srgbClr val="464749"/>
              </a:solidFill>
              <a:latin typeface="Arial"/>
            </a:endParaRPr>
          </a:p>
          <a:p>
            <a:pPr lvl="1" marL="750960" indent="0">
              <a:lnSpc>
                <a:spcPct val="80000"/>
              </a:lnSpc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64749"/>
              </a:solidFill>
              <a:latin typeface="Arial"/>
            </a:endParaRPr>
          </a:p>
          <a:p>
            <a:pPr marL="228600" indent="-228600">
              <a:lnSpc>
                <a:spcPct val="80000"/>
              </a:lnSpc>
              <a:spcAft>
                <a:spcPts val="1500"/>
              </a:spcAft>
              <a:buClr>
                <a:srgbClr val="f0a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749"/>
                </a:solidFill>
                <a:latin typeface="Arial"/>
              </a:rPr>
              <a:t>Compliance tests (TCK) could use existing license model</a:t>
            </a:r>
            <a:endParaRPr b="0" lang="en-US" sz="2400" spc="-1" strike="noStrike">
              <a:solidFill>
                <a:srgbClr val="464749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Aft>
                <a:spcPts val="1125"/>
              </a:spcAft>
              <a:buClr>
                <a:srgbClr val="f0ab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749"/>
                </a:solidFill>
                <a:latin typeface="Arial"/>
              </a:rPr>
              <a:t>Internal materials may be EPL or AL2 with terms passed through in notices file</a:t>
            </a:r>
            <a:endParaRPr b="0" lang="en-US" sz="1800" spc="-1" strike="noStrike">
              <a:solidFill>
                <a:srgbClr val="464749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Aft>
                <a:spcPts val="1125"/>
              </a:spcAft>
              <a:buClr>
                <a:srgbClr val="f0ab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749"/>
                </a:solidFill>
                <a:latin typeface="Arial"/>
              </a:rPr>
              <a:t>OSGi Alliance would grant Eclipse rights to use TCK (normal licensing policy for qualified non-profits)</a:t>
            </a:r>
            <a:endParaRPr b="0" lang="en-US" sz="1800" spc="-1" strike="noStrike">
              <a:solidFill>
                <a:srgbClr val="464749"/>
              </a:solidFill>
              <a:latin typeface="Arial"/>
            </a:endParaRPr>
          </a:p>
          <a:p>
            <a:pPr lvl="1" marL="750960" indent="-285840">
              <a:lnSpc>
                <a:spcPct val="80000"/>
              </a:lnSpc>
              <a:spcAft>
                <a:spcPts val="1125"/>
              </a:spcAft>
              <a:buClr>
                <a:srgbClr val="f0ab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64749"/>
                </a:solidFill>
                <a:latin typeface="Arial"/>
              </a:rPr>
              <a:t>3rd Party implementer needs to become an Alliance member for TCK access</a:t>
            </a:r>
            <a:endParaRPr b="0" lang="en-US" sz="18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331AE-81C9-4165-B80A-13F1FFAFC54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3880" y="565200"/>
            <a:ext cx="7315200" cy="9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200" spc="-1" strike="noStrike">
                <a:solidFill>
                  <a:srgbClr val="005293"/>
                </a:solidFill>
                <a:latin typeface="Arial"/>
              </a:rPr>
              <a:t>What does this mean to OSGi Alliance?</a:t>
            </a:r>
            <a:endParaRPr b="0" lang="en-US" sz="3200" spc="-1" strike="noStrike">
              <a:solidFill>
                <a:srgbClr val="00529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30360" y="1755360"/>
            <a:ext cx="74260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00"/>
              </a:spcBef>
              <a:buClr>
                <a:srgbClr val="f0a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749"/>
                </a:solidFill>
                <a:latin typeface="Arial"/>
              </a:rPr>
              <a:t>Work needed in MEG</a:t>
            </a: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buClr>
                <a:srgbClr val="f0ab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749"/>
                </a:solidFill>
                <a:latin typeface="Arial"/>
              </a:rPr>
              <a:t>Consolidate existing eRCP JavaDoc</a:t>
            </a:r>
            <a:endParaRPr b="0" lang="en-US" sz="2000" spc="-1" strike="noStrike">
              <a:solidFill>
                <a:srgbClr val="464749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buClr>
                <a:srgbClr val="f0ab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749"/>
                </a:solidFill>
                <a:latin typeface="Arial"/>
              </a:rPr>
              <a:t>Fill in spec gaps</a:t>
            </a:r>
            <a:endParaRPr b="0" lang="en-US" sz="2000" spc="-1" strike="noStrike">
              <a:solidFill>
                <a:srgbClr val="464749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buClr>
                <a:srgbClr val="f0ab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749"/>
                </a:solidFill>
                <a:latin typeface="Arial"/>
              </a:rPr>
              <a:t>Consolidate existing API testcases</a:t>
            </a:r>
            <a:endParaRPr b="0" lang="en-US" sz="2000" spc="-1" strike="noStrike">
              <a:solidFill>
                <a:srgbClr val="464749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buClr>
                <a:srgbClr val="f0ab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749"/>
                </a:solidFill>
                <a:latin typeface="Arial"/>
              </a:rPr>
              <a:t>Fill in testcases to produce complete TCK</a:t>
            </a:r>
            <a:endParaRPr b="0" lang="en-US" sz="2000" spc="-1" strike="noStrike">
              <a:solidFill>
                <a:srgbClr val="464749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buClr>
                <a:srgbClr val="f0ab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749"/>
                </a:solidFill>
                <a:latin typeface="Arial"/>
              </a:rPr>
              <a:t>Handle spec drafts, feedback, and approvals</a:t>
            </a:r>
            <a:endParaRPr b="0" lang="en-US" sz="2000" spc="-1" strike="noStrike">
              <a:solidFill>
                <a:srgbClr val="464749"/>
              </a:solidFill>
              <a:latin typeface="Arial"/>
            </a:endParaRPr>
          </a:p>
          <a:p>
            <a:pPr lvl="1" marL="750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64749"/>
              </a:solidFill>
              <a:latin typeface="Arial"/>
            </a:endParaRPr>
          </a:p>
          <a:p>
            <a:pPr marL="228600" indent="-228600">
              <a:spcBef>
                <a:spcPts val="700"/>
              </a:spcBef>
              <a:buClr>
                <a:srgbClr val="f0a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749"/>
                </a:solidFill>
                <a:latin typeface="Arial"/>
              </a:rPr>
              <a:t>Give feedback to Eclipse community</a:t>
            </a:r>
            <a:endParaRPr b="0" lang="en-US" sz="2800" spc="-1" strike="noStrike">
              <a:solidFill>
                <a:srgbClr val="464749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buClr>
                <a:srgbClr val="f0ab00"/>
              </a:buClr>
              <a:buSzPct val="1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749"/>
                </a:solidFill>
                <a:latin typeface="Arial"/>
              </a:rPr>
              <a:t>Recommend new API and changes</a:t>
            </a:r>
            <a:endParaRPr b="0" lang="en-US" sz="20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658D46-20BE-4B0D-9D69-1A891725E21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3880" y="565200"/>
            <a:ext cx="7315200" cy="9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600" spc="-1" strike="noStrike">
                <a:solidFill>
                  <a:srgbClr val="005293"/>
                </a:solidFill>
                <a:latin typeface="Arial"/>
              </a:rPr>
              <a:t>Background Slides</a:t>
            </a:r>
            <a:endParaRPr b="0" lang="en-US" sz="3600" spc="-1" strike="noStrike">
              <a:solidFill>
                <a:srgbClr val="00529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2ECE8C-F79D-4A5B-A2FF-80DE14BE35C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3880" y="565200"/>
            <a:ext cx="7315200" cy="9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3600" spc="-1" strike="noStrike">
                <a:solidFill>
                  <a:srgbClr val="005293"/>
                </a:solidFill>
                <a:latin typeface="Arial"/>
              </a:rPr>
              <a:t>What is eRCP?</a:t>
            </a:r>
            <a:endParaRPr b="0" lang="en-US" sz="3600" spc="-1" strike="noStrike">
              <a:solidFill>
                <a:srgbClr val="00529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8458200" cy="499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f0a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749"/>
                </a:solidFill>
                <a:latin typeface="Arial"/>
              </a:rPr>
              <a:t>eRCP is an embedded version of the Eclipse Rich Client Platform</a:t>
            </a:r>
            <a:endParaRPr b="0" lang="en-US" sz="2400" spc="-1" strike="noStrike">
              <a:solidFill>
                <a:srgbClr val="464749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f0a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749"/>
                </a:solidFill>
                <a:latin typeface="Arial"/>
              </a:rPr>
              <a:t>Reduces RCP size/function to fit on devices</a:t>
            </a:r>
            <a:endParaRPr b="0" lang="en-US" sz="2400" spc="-1" strike="noStrike">
              <a:solidFill>
                <a:srgbClr val="464749"/>
              </a:solidFill>
              <a:latin typeface="Arial"/>
            </a:endParaRPr>
          </a:p>
          <a:p>
            <a:pPr marL="228600" indent="-228600">
              <a:spcBef>
                <a:spcPts val="751"/>
              </a:spcBef>
              <a:spcAft>
                <a:spcPts val="451"/>
              </a:spcAft>
              <a:buClr>
                <a:srgbClr val="f0a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749"/>
                </a:solidFill>
                <a:latin typeface="Arial"/>
              </a:rPr>
              <a:t>Utilizes the same OSGi Service Platform as RCP</a:t>
            </a:r>
            <a:endParaRPr b="0" lang="en-US" sz="2400" spc="-1" strike="noStrike">
              <a:solidFill>
                <a:srgbClr val="464749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spcAft>
                <a:spcPts val="451"/>
              </a:spcAft>
              <a:buClr>
                <a:srgbClr val="f0a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749"/>
                </a:solidFill>
                <a:latin typeface="Arial"/>
              </a:rPr>
              <a:t>Rich widget capabilities</a:t>
            </a:r>
            <a:endParaRPr b="0" lang="en-US" sz="2400" spc="-1" strike="noStrike">
              <a:solidFill>
                <a:srgbClr val="464749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spcAft>
                <a:spcPts val="451"/>
              </a:spcAft>
              <a:buClr>
                <a:srgbClr val="f0a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749"/>
                </a:solidFill>
                <a:latin typeface="Arial"/>
              </a:rPr>
              <a:t>Mobile device extensions</a:t>
            </a:r>
            <a:endParaRPr b="0" lang="en-US" sz="2400" spc="-1" strike="noStrike">
              <a:solidFill>
                <a:srgbClr val="464749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spcAft>
                <a:spcPts val="451"/>
              </a:spcAft>
              <a:buClr>
                <a:srgbClr val="f0a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749"/>
                </a:solidFill>
                <a:latin typeface="Arial"/>
              </a:rPr>
              <a:t>eRCP Applications are binary compatible across a range of devices</a:t>
            </a:r>
            <a:endParaRPr b="0" lang="en-US" sz="2400" spc="-1" strike="noStrike">
              <a:solidFill>
                <a:srgbClr val="464749"/>
              </a:solidFill>
              <a:latin typeface="Arial"/>
            </a:endParaRPr>
          </a:p>
          <a:p>
            <a:pPr marL="228600" indent="-228600">
              <a:spcBef>
                <a:spcPts val="601"/>
              </a:spcBef>
              <a:buClr>
                <a:srgbClr val="f0ab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749"/>
                </a:solidFill>
                <a:latin typeface="Arial"/>
              </a:rPr>
              <a:t>Has been available for over a year and is being used for many company internal projects</a:t>
            </a:r>
            <a:endParaRPr b="0" lang="en-US" sz="2400" spc="-1" strike="noStrike">
              <a:solidFill>
                <a:srgbClr val="46474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33F36-677B-4926-9632-67A77380E86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2T20:26:21Z</dcterms:created>
  <dc:creator>Stan Moyer</dc:creator>
  <dc:description/>
  <cp:keywords>OSGi Alliance Service Platform</cp:keywords>
  <dc:language>en-US</dc:language>
  <cp:lastModifiedBy>Mark Rogalski</cp:lastModifiedBy>
  <dcterms:modified xsi:type="dcterms:W3CDTF">2008-02-11T21:32:38Z</dcterms:modified>
  <cp:revision>330</cp:revision>
  <dc:subject>User Forum Japan Keynote</dc:subject>
  <dc:title>OSGi Alliance Overview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45546693</vt:r8>
  </property>
  <property fmtid="{D5CDD505-2E9C-101B-9397-08002B2CF9AE}" pid="3" name="_AuthorEmail">
    <vt:lpwstr>j.ritter@prosyst.com</vt:lpwstr>
  </property>
  <property fmtid="{D5CDD505-2E9C-101B-9397-08002B2CF9AE}" pid="4" name="_AuthorEmailDisplayName">
    <vt:lpwstr>Joachim Ritter</vt:lpwstr>
  </property>
  <property fmtid="{D5CDD505-2E9C-101B-9397-08002B2CF9AE}" pid="5" name="_EmailSubject">
    <vt:lpwstr>eRCP in OSGi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