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896D-F217-419F-98C1-C8001CC9B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501E-B3DC-42C9-973B-73A71AD21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C10B-8339-4B42-B4D7-B00DFFF2B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158E-60ED-4BF9-837C-FCA8AFB01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D9FD-819C-4152-8219-B45F026DE7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DCC9-0262-4698-970C-7DFDF1287C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3E53-7F02-4280-8683-E234BB61B9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75C59-7D62-4EA7-83EF-91D9E4082E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52FA-058D-478A-8A1A-A7B6870B6C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8000" y="770040"/>
            <a:ext cx="82454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829C-6CF3-4968-885A-DF21D22345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8ED0-2A1C-41BA-A9BF-48DDD090F7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2D9B-903D-4347-A020-FB297143B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4E54-7678-437A-8E8D-795B1A77AB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CAB9-2AEE-4B1B-ADE4-7F0C8B6257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7DB21-222A-4F42-A4D5-DDC9A63867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9E07-586F-4B1F-8323-C9237F9801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F31F-ED47-47EE-8B06-F58348DB6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3B8C-9BC3-4427-8688-4A80A118A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E677-8D65-4BF0-A785-00CAB910F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42FD-85D2-4E4E-87BF-5F89242AC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8000" y="770040"/>
            <a:ext cx="8245440" cy="23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3FC6-F7C0-4FB6-A4AF-FEBAC3C9D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39E7-8D07-431A-8373-A54659C84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A5FE-312B-437A-9C77-3111FDAAD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EF2E-D83E-4EB6-BDF7-209F3CCF0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540080" cy="1539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516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clipse Foundation, In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7057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A60A-2443-4736-87B3-F55A44A52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7740-7C2D-49BA-9DD6-A9B70B849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B865-2B6B-4636-80A4-FB99CEDC8E16}" type="datetime3">
              <a:rPr b="0" lang="en-US" sz="1300" spc="-1" strike="noStrike">
                <a:solidFill>
                  <a:srgbClr val="ffffff"/>
                </a:solidFill>
                <a:latin typeface="Arial"/>
              </a:rPr>
              <a:t>July 28, 2026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ject Dash, Eclipse Monkey Component Termination Re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jorn Freeman-Benson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ugust 13, 200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A322-0BDC-438F-92B5-BB631897FD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No Community Eclipse Monkey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294920"/>
            <a:ext cx="7348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Eclipse Monkey component of the Dash Project was originally created by Ward and Bjorn in March 2006 as one of their “a little technology, a little process, and a little community” efforts to help the Eclipse developer community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nkey gained some users but never found a core developer team to maintain and improve i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has been no major work on Eclipse Monkey for more than a year and even before that the work was mostly refactoring the existing code for better modulariza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are eight posts in the newsgroup in the last year, three of which are “is this project still alive?”.</a:t>
            </a: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ttp://www.eclipse.org/newsportal/thread.php?group=eclipse.technology.dash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re are a few dozens of posts on the mailing list, but none are of the form “I’ll work on Monday as a committer”.</a:t>
            </a:r>
            <a:br>
              <a:rPr sz="18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ttp://dev.eclipse.org/mhonarc/lists/dash-dev/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clusion: the Eclipse Monkey component has no committer commun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8EA1-147D-40F8-9F67-EF4BC2FC69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chiving Eclipse Monkey (1)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actions to be taken to archive the Eclipse Monkey component of the Dash project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Zip up and remove these directories from the CVS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dash.domifie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dash.dom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eclipsemonke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eclipsemonkey.*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eclipsemonkey-featu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eclipse.eclipsemonkey-sit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mozilla.javascrip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mozilla.rhin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rg.mozilla.rhino-featur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D486-4B52-4B77-B1C2-2E7821717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chiving Eclipse Monkey (2)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actions to be taken to archive the Eclipse Monkey component of the Dash project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chive and remove these dash website files and directories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sh/monkey/*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sh/monkey*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e the 33 currently open bugs under Dash &gt; Eclipse monkey as “this component is being archived and thus this bug is being marked as WONTFIX”. Then mark them as WONTFIX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chive and close for further submission the Dash &gt; Eclipse monkey bugzilla component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C5B3-7701-4CF9-B20A-B435FD749C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7700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rchiving Eclipse Monkey (3)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actions to be taken to archive the Eclipse Monkey component of the Dash project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ote on all these wiki pages that this component is now archived: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Eclipse_Monke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Eclipse_Monkey_Overview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Eclipse_Monkey/Javascript_Edito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Eclipse_Monkey/Overview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Eclipse_Monkey/1.0_Project_Pl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ttp://wiki.eclipse.org/Monkey_Script_Emporiu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E008-FBB1-46B6-9015-F420EF801A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5:23:37Z</dcterms:created>
  <dc:creator>Bjorn Freeman-Benson</dc:creator>
  <dc:description/>
  <cp:keywords/>
  <dc:language>en-US</dc:language>
  <cp:lastModifiedBy>Bjorn Freeman-Benson</cp:lastModifiedBy>
  <dcterms:modified xsi:type="dcterms:W3CDTF">2008-08-04T23:43:27Z</dcterms:modified>
  <cp:revision>22</cp:revision>
  <dc:subject/>
  <dc:title>Eclipse Monkey Termination Review</dc:title>
</cp:coreProperties>
</file>