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B35E-D78B-4415-A107-2FE9F8F5B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C445-390E-4826-AB00-2D730221E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DBB4-084D-4B74-8A58-97E3C69B3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780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68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780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2285-0986-4A88-BC31-289ABC6C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50F4-C83E-4FAF-BC27-68C320CE2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C6C7-0825-4A6D-A691-D7FF4DC5D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4C97-2D54-4C64-802A-2023BED0E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72E5-035D-4E3F-9702-ACC5366A9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CFDB-3C71-437A-94A2-506E20031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BBD4-7AD4-4AA2-9A2B-B22CB36F4C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FD35-F0C6-43D7-ADE6-F996DA435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4B58-02FC-4B13-9F31-91BA3961D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6E90-8215-4BCF-B571-6EAC6FDCDC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996F-141B-4122-A3AE-3E3AA98E0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0D13-1AE3-42CC-9AAC-4BC1D761A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EDB5-429A-4D48-9712-5C62A2D89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780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392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6168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780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392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39FD-B8CA-455C-B4CD-D6087A8CB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593D-BA86-4BD4-A138-9F4BF90BD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39C8-7A77-4B9C-942B-F794DB94C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A64F-9D9B-4D5D-BA97-D9C2C2B1F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A0EA-C186-4D47-9D02-F1883665C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3777-4002-4D12-A1D8-119F77956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37A2-03F5-4AF6-BC92-9A236A69F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8ED9-A7B0-48B6-9142-413E6D5B5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604-C516-41CD-86B5-40EA052546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rt Integration – The BIRT API’s  |  © 2007 by Jason Weathersby, Actuate Corporation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87200" y="77760"/>
            <a:ext cx="5175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286160" y="276120"/>
            <a:ext cx="1076400" cy="2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7 Jason Weathersby, Actuate Corporation made available under the EPL v1.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87200" y="77760"/>
            <a:ext cx="5175360" cy="63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6160" y="276120"/>
            <a:ext cx="1076400" cy="24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clipse.org/bir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Integration - The BIRT API'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Design Time and Report Engine API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EBA3-3E30-47DF-BF6C-28FDD57CF0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4080" y="813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port Engine Tas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60440" y="1378080"/>
            <a:ext cx="1452600" cy="291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59200" y="1305000"/>
            <a:ext cx="25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configuration variables such as Engine Home and Log configu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32080" y="2401920"/>
            <a:ext cx="4651200" cy="438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one or more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14560" y="167004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22520" y="1962000"/>
            <a:ext cx="312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Report Design and Documents. Create Engine Tas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87360" y="5037120"/>
            <a:ext cx="1307880" cy="1388880"/>
            <a:chOff x="1287360" y="5037120"/>
            <a:chExt cx="1307880" cy="1388880"/>
          </a:xfrm>
        </p:grpSpPr>
        <p:sp>
          <p:nvSpPr>
            <p:cNvPr id="211" name=""/>
            <p:cNvSpPr/>
            <p:nvPr/>
          </p:nvSpPr>
          <p:spPr>
            <a:xfrm>
              <a:off x="1287360" y="5037120"/>
              <a:ext cx="1017360" cy="109656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 F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32440" y="5183280"/>
              <a:ext cx="1017720" cy="109656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 F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7880" y="5329440"/>
              <a:ext cx="1017360" cy="109656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 Fi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540240" y="5037120"/>
            <a:ext cx="1307520" cy="1388880"/>
            <a:chOff x="3540240" y="5037120"/>
            <a:chExt cx="1307520" cy="1388880"/>
          </a:xfrm>
        </p:grpSpPr>
        <p:sp>
          <p:nvSpPr>
            <p:cNvPr id="215" name=""/>
            <p:cNvSpPr/>
            <p:nvPr/>
          </p:nvSpPr>
          <p:spPr>
            <a:xfrm>
              <a:off x="3540240" y="5037120"/>
              <a:ext cx="1017000" cy="109656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85320" y="5183280"/>
              <a:ext cx="1017360" cy="109656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30760" y="5329440"/>
              <a:ext cx="1017000" cy="109656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t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76560" y="4159080"/>
            <a:ext cx="1671840" cy="293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Extrac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0440" y="3209760"/>
            <a:ext cx="2106720" cy="292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ParameterDefini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14560" y="4599000"/>
            <a:ext cx="1671480" cy="291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40160" y="4599000"/>
            <a:ext cx="1379520" cy="2919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9440" y="3794040"/>
            <a:ext cx="1817640" cy="292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And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1" idx="0"/>
            <a:endCxn id="220" idx="1"/>
          </p:cNvCxnSpPr>
          <p:nvPr/>
        </p:nvCxnSpPr>
        <p:spPr>
          <a:xfrm flipH="1" flipV="1" rot="5400000">
            <a:off x="1759680" y="4781880"/>
            <a:ext cx="292680" cy="21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5" idx="0"/>
            <a:endCxn id="221" idx="1"/>
          </p:cNvCxnSpPr>
          <p:nvPr/>
        </p:nvCxnSpPr>
        <p:spPr>
          <a:xfrm flipH="1" flipV="1" rot="5400000">
            <a:off x="4048560" y="4745160"/>
            <a:ext cx="292680" cy="29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5719680" y="474516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48400" y="430524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0"/>
            <a:endCxn id="218" idx="1"/>
          </p:cNvCxnSpPr>
          <p:nvPr/>
        </p:nvCxnSpPr>
        <p:spPr>
          <a:xfrm flipV="1" rot="16200000">
            <a:off x="3646800" y="4635720"/>
            <a:ext cx="876960" cy="218160"/>
          </a:xfrm>
          <a:prstGeom prst="bentConnector4">
            <a:avLst>
              <a:gd name="adj1" fmla="val 41642"/>
              <a:gd name="adj2" fmla="val 204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1" idx="0"/>
            <a:endCxn id="222" idx="1"/>
          </p:cNvCxnSpPr>
          <p:nvPr/>
        </p:nvCxnSpPr>
        <p:spPr>
          <a:xfrm flipH="1" flipV="1" rot="5400000">
            <a:off x="1574640" y="4161960"/>
            <a:ext cx="1097640" cy="653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267080" y="3940200"/>
            <a:ext cx="203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0" idx="2"/>
            <a:endCxn id="215" idx="1"/>
          </p:cNvCxnSpPr>
          <p:nvPr/>
        </p:nvCxnSpPr>
        <p:spPr>
          <a:xfrm flipH="1" rot="16200000">
            <a:off x="2847960" y="4893840"/>
            <a:ext cx="696240" cy="68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2" idx="1"/>
            <a:endCxn id="219" idx="1"/>
          </p:cNvCxnSpPr>
          <p:nvPr/>
        </p:nvCxnSpPr>
        <p:spPr>
          <a:xfrm rot="10800000">
            <a:off x="1359720" y="3355200"/>
            <a:ext cx="73800" cy="2377440"/>
          </a:xfrm>
          <a:prstGeom prst="bentConnector3">
            <a:avLst>
              <a:gd name="adj1" fmla="val 4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467160" y="3355920"/>
            <a:ext cx="283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3800" y="320976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ieve Parameters and their proper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73800" y="3746520"/>
            <a:ext cx="239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support Pagination, TOC, Bookmar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73800" y="452592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Paginated HTML, XLS, PDF Document, Postscript, X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48400" y="558792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ieve TOC and Bookma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6280" y="5740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81720" y="4183200"/>
            <a:ext cx="26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ct Data from Report Doc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442A-7E1B-4EE0-9239-DDBF569B2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port Engine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428840"/>
            <a:ext cx="571500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porting Task – One Engine Supports Multiple 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2038320"/>
            <a:ext cx="69339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ReportDesig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ven Open methods that include support for Filename, InputStream, and ResourceLoca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952720"/>
            <a:ext cx="41907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LogLevel(newlevel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ew Logging Level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495520"/>
            <a:ext cx="69339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ReportDocument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ix Open methods that include support for Filename, IDocArchiveReader, and ResourceLoca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348624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GetParameterDefini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retrieve Parameter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394344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Ru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create a rptdocument from a rptde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40064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render a rptdocument to an output form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485784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DataExtrac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extract report data from an rptdoc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531504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RunAnd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execute a rptdesign and produce an output in the selected form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3486240"/>
            <a:ext cx="1523880" cy="22860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286000"/>
              <a:gd name="textAreaBottom" fmla="*/ 2211840 h 2286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gine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4552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A819-5539-436B-9866-F76A6B2AE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EngineTask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8288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a2c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gine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Class for all Tas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Locale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Locale for the Re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27432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AppContext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odify Application Context for the tas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32004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arameterValue(Parameter Name, Parameter Value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individual Par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6576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arameterValues(HashMap map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all parameters for the re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1148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idateParameters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erifies proper paramet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45720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lose the task and release resour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50292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cel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ancel a running task.  Requires new Thread.  Does not cancel actively running Qu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48640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Status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et the status of the currently running task. Not Started, Running, Succeded, Failed, Cancell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CF7F-8D10-4D98-9BE7-443B7EB0A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unAndRenderTask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187632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And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ecute a rptdesign and emit an outp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233352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ecutes the report design and produces the selected outp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279072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nderOptions(IRenderOptions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up Render Options for the Tas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1A46-013D-4722-AE76-713ED840E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unTask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20192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ecute a rptdesign and create a rptdoc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25146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(String path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un the task and output the rptdocument to the path location.  Can be fol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9718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(IDocArchiveWriter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DocArchiveWriter Allows the user to implement a writer to output the report doc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4290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ageHandler(IPageHandl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llows setting a callback on each HTML page generation. Progressive View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2CEF-BB6F-4577-A320-18D9C0CAF2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nderTask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16574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nder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nder a rptdocument to an outp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21146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nder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 the output.  Set RenderOptions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25718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nderOptions(IRenderOptions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up Render Options for the Tas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30290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Bookmark(Bookmark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s the page that contains the Bookmar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34862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InstanceId(InstanceID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s the page that contains the Instance 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95280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ageNumber(PageNumber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s the page specified by Page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441000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ageRange(PageRange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s the page r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A9C9-4F98-4952-9EDA-662FC1E7A7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etParmeterDefinitionTask Important Methods 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16574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arameterDefini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rieve report parameter detai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11464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arameterDefns(boolean Indclude groups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turns a collection of the report parameter defin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440" y="257976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arameterDefn(ParameterName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turns a IParameterDefnBase for the given parameter.  See Report parameter detai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1000" y="3035160"/>
            <a:ext cx="647676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SelectionList(ParameterName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retrieve values for a parameter that are either dynamic or st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2920" y="3490920"/>
            <a:ext cx="83023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SelectionListForCascadingGroup(GroupName, Object array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 -Iterative c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retrieve values for a cascaded parameter.  Object array contains nothing for first level, 1 value for second level.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3946680"/>
            <a:ext cx="64738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eQuery( parameterGroupNam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prior to getting the selection list for cascaded parameter.  Caches result set in mem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31800" y="4411800"/>
            <a:ext cx="64738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DefaultValues(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turns HashMap of all parameters with there default values (ParamName –Value P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41520" y="4876920"/>
            <a:ext cx="64738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arameters() getParameter(ParameterNam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retrieve report parameter han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251C-2981-434D-8D4F-BDCBF58007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080" y="711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port Parameter Detail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174312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arameterTyp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urns the type of parameter eg (Filter, List, Table, Group or Scal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440" y="218916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TypeNam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turns Type Name listed abo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265572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HelpText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p Text for the Para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33600" y="3102120"/>
            <a:ext cx="64767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romptText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mpt Text for the Para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440" y="4094280"/>
            <a:ext cx="428796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alarParameter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ar Parameter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33600" y="1209600"/>
            <a:ext cx="6465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arameterDefn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interface for all Parame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4680" y="4083120"/>
            <a:ext cx="428796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arameterGroup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meter Group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1520" y="355752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Handl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parameter desig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7440" y="4594320"/>
            <a:ext cx="42879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DataTy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meter Data Type (Float, String etc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7440" y="5049720"/>
            <a:ext cx="428796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Display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meter forma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7440" y="5516640"/>
            <a:ext cx="42879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owBlank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blank parameter value be us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95920" y="4668840"/>
            <a:ext cx="3603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alarParameter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ar Parameter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75200" y="4848120"/>
            <a:ext cx="36036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alarParameter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ar Parameter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54480" y="5027760"/>
            <a:ext cx="3603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alarParameter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ar Parameter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4120" y="5207040"/>
            <a:ext cx="36036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alarParameterDef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lar Parameter Defin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440" y="5981760"/>
            <a:ext cx="42879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e Parameters example for more detai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1915-6587-4D98-B198-F21C27F135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DataExtractionTask Important Method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20192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Extraction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rieve data from a report document.  These are result sets from a bound element not a datas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4764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ResultSetList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rrayList of all data bound elements.  Hint  Name elements such as tables to make it easi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29336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ResultSet(resultSetNam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the data element you wish to extra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33908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InstanceID(Instance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Instance ID of the data element to extract.  Easier to use selectResult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382896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Columns(String[]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ect the columns you wish to extra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276800"/>
            <a:ext cx="64771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Filters(IFilterDefinition[]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simplistic filters on the resultset to cull returned da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23920" y="4714920"/>
            <a:ext cx="716292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tract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tract the results returns IExtractionResults, which has methods for getting the metadata and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11BB-1DED-4E8A-A6A4-FADE0E33D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nderOption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1680" y="1775880"/>
            <a:ext cx="773748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figure Report Output location and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in must exist that emits the chosen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RunAndRender and Render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0240" y="3048120"/>
            <a:ext cx="773928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enderOption option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nderOption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s.setOutputFormat("html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s.setOutputFileName("output/customers.html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options.getOutputFormat().equalsIgnoreCase("html")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RenderOption htmlOptions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TMLRenderOption( option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Options.setImageDirectory("output/image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Options.setHtmlPagination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.setRenderOption(option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0E51-6645-4CA7-9EB1-48EE078D25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Gi Startup and Engin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Engin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Engin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DE API within the R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D68C-49A0-454B-8EC5-24D82953C9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0" y="723960"/>
            <a:ext cx="42670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RenderO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interface for Rendering Repo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13334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BaseURL(UrlString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prepend URL to action handl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7906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OutputFileName(Filename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utput to specific filenam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2478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OutputFormat(FormatString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utput to format. Eg pdf, 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7050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OutputStream( OutputStream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nders to the OutputStrea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1622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SupportedImageFormats(FormatString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the image formats that the render supports.eg “PNG;GIF;JPG;BMP;SVG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6194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ActionHandler(IHTMLActionHandl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mplement a Action Handler to handle hyperlinks or use the defau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407664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ImageHandler(IHTMLImageHandl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mplement an Image Handler to handle reading and writing imag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4610160"/>
            <a:ext cx="42670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DFRenderO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fic PDF render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14368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EmbededFont(boolea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y whether fonts should be embedded in the outp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610160"/>
            <a:ext cx="426708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HTMLRenderO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fic HTML render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514368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ImageDirectory(Directory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the directory that the engine will store imag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560088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FontDirectory(Directory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y location of fo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560088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BaseImageURL(String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epend uri to images.  Must be ServerImageHandler or Your ow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605808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Embeddable(boolea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move HTML and Body ta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F12B-3657-40DF-9A9F-95ED6A2479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HTML Image and Hyperlink Managemen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81240" y="1704960"/>
            <a:ext cx="508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MLImage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 used to handle writing image files for a report outp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0440" y="2314440"/>
            <a:ext cx="299088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MLCompleteImage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le Based Image Manag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03720" y="2303640"/>
            <a:ext cx="5678280" cy="3920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MLServerImage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llows Creating images in a directory and prepending the img src attribute with a UR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81240" y="2836800"/>
            <a:ext cx="2990880" cy="38124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your 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62160" y="3751200"/>
            <a:ext cx="51055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MLAction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 used to handle building URLs generated from the hyperlink edi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60640" y="4368960"/>
            <a:ext cx="29908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your 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9D90-14C8-4D80-AB2F-F44C8E973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mpdir and Classload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7120" y="325728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Java Class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oader set through the app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APP_CLASSPATH_KEY – WebViewer sets this through scriptlib p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_CLASSPATH_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PACE_CLASSPATH_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s defined in the Repor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4400" y="1370160"/>
            <a:ext cx="77724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io.tmp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8280" indent="-27720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db, Jar Cache for ODA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8280" indent="-27720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Viewer – resourcefolder, scriptlibdir, imagefolder, documentfolder, workingfolder: if relative and can not w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1400" indent="-2214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296F-7B4A-4FEB-A7F9-5DAA00081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Design Engine API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Generate/Modify Report Designs, Templates and Libr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in conjunction with the RE API to modify designs on the f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in BIRT Script to modify designs on the f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delete report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report elements into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nd set parameter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etadata from report elements, properties and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o/R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c0c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Checks on report desig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6F77-3EF3-416A-9CD3-F7D7BF6E8A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BIRT Element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1523880"/>
            <a:ext cx="446076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s – Report Objects such as Table, Label, Styl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 – Modify the Element state and often support inheritance.  Discussed in ROM specification. Simple and Complex propert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s – Describes element - container relationships. For example a Report element contains slots for Data Sources, Data Sets, Report Body, etc.  Represented by SlotHand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ReportItemDetails ex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114880" y="871560"/>
          <a:ext cx="3781440" cy="31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4880" y="871560"/>
                    <a:ext cx="378144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3127-6E21-410C-B2C7-FD9E384C4D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SessionHandle key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1542960"/>
            <a:ext cx="6477120" cy="381240"/>
          </a:xfrm>
          <a:prstGeom prst="roundRect">
            <a:avLst>
              <a:gd name="adj" fmla="val 16667"/>
            </a:avLst>
          </a:prstGeom>
          <a:solidFill>
            <a:srgbClr val="a2c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ssion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 used to create and modify report content.  Can be used to open many de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57320" y="2048040"/>
            <a:ext cx="735336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Module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ur methods open a module.  Support for InputStream or Filename.  Does not matter if Lib or RptDe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0280" y="251460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Library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ix methods for opening a Lib.  Support for Base URL, Filename and InputStream.  URL is used for relative resour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0280" y="297180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Design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ix methods for opening a rptdesign.  Support for Base URL, Filename and InputStream.  URL is used for relative resour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0280" y="342756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Design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  createDesign(ReportNam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 a new report design.  Returns a ReportHandle.  Used in creating a template as w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0280" y="388476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Library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 a new library.  Returns a Library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0280" y="434988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LibraryFromTemplate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 a new library based on a rpttemplate (Must be a lib).  Returns a Library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8200" y="479592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DesignFromTemplate(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 a new report design based on a rpttemplate (Must be a Report).  Returns a Report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6400" y="526104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sourceFolder(String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ocation of resour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4960" y="5726160"/>
            <a:ext cx="8086680" cy="38088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sourceLocator(IResourceLocator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your own resource locat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47ED-9A14-4493-98D4-857A0F63CC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Simple DE API Proces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65400" y="1893960"/>
            <a:ext cx="3114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Visual Ele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7320" y="2438280"/>
            <a:ext cx="391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SessionHandle(Loc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Session used to create reports, libs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87320" y="2970360"/>
            <a:ext cx="391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Desig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urns a ReportDesignHand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7320" y="3513240"/>
            <a:ext cx="391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ElementFactor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urns ElementFactory to Create Report Ele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7320" y="4054320"/>
            <a:ext cx="391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Bod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urns SlotHandle use add to add new report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87320" y="4595760"/>
            <a:ext cx="3916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signSession.saveA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ve Report De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1047600"/>
            <a:ext cx="39337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Config confi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Config(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.setBIRTHome("C:/birt/birt-runtime-2.2.0m5rc/birt-runtime-2_2_0/ReportEngine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signEngine engin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onfig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signEngineFactory factory = (IDesignEngineFactory) Plat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eateFactory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DesignEngineFactory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SION_DESIGN_ENGINE_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= factory.createDesignEngine( config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xception e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printStackTrac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ssionHandle session = engine.newSessionHandle( ULocale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DesignHandle design = session.createDesign(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Factory factory = design.getElementFactory(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Handle grid = factory.newGridItem(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 , 1 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.getBody( ).add( grid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.saveAs( "output/desample/sample.rptdesign"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51B3-02DD-4889-96E4-30DD9171F8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080" y="7488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OM Report Object Model Handl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19240" y="361800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Element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Visual Ele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27520" y="4162320"/>
            <a:ext cx="3438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Item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sual Elements.  Includes Data, Position and Sty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1360" y="1247760"/>
            <a:ext cx="3114720" cy="61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Element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class for all report ele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Defn to get Element Definition for slot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81080" y="194148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s most of the common design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57600" y="248112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rary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a Libra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29160" y="302256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Design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 Design Hand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0240" y="4694400"/>
            <a:ext cx="3438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bel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a Label El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18160" y="5207040"/>
            <a:ext cx="3438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Item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a Data El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32200" y="576900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a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68" idx="2"/>
            <a:endCxn id="369" idx="1"/>
          </p:cNvCxnSpPr>
          <p:nvPr/>
        </p:nvCxnSpPr>
        <p:spPr>
          <a:xfrm flipH="1" rot="16200000">
            <a:off x="1701360" y="1891080"/>
            <a:ext cx="30564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9" idx="2"/>
            <a:endCxn id="370" idx="1"/>
          </p:cNvCxnSpPr>
          <p:nvPr/>
        </p:nvCxnSpPr>
        <p:spPr>
          <a:xfrm flipH="1" rot="16200000">
            <a:off x="3891600" y="2044440"/>
            <a:ext cx="311760" cy="1019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6" idx="2"/>
            <a:endCxn id="367" idx="1"/>
          </p:cNvCxnSpPr>
          <p:nvPr/>
        </p:nvCxnSpPr>
        <p:spPr>
          <a:xfrm flipH="1" rot="16200000">
            <a:off x="3543120" y="4107240"/>
            <a:ext cx="316440" cy="25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69" idx="2"/>
            <a:endCxn id="371" idx="1"/>
          </p:cNvCxnSpPr>
          <p:nvPr/>
        </p:nvCxnSpPr>
        <p:spPr>
          <a:xfrm flipH="1" rot="16200000">
            <a:off x="3607560" y="2329200"/>
            <a:ext cx="85320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endCxn id="374" idx="1"/>
          </p:cNvCxnSpPr>
          <p:nvPr/>
        </p:nvCxnSpPr>
        <p:spPr>
          <a:xfrm flipH="1" rot="16200000">
            <a:off x="2900880" y="5066280"/>
            <a:ext cx="160740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7" idx="2"/>
            <a:endCxn id="372" idx="1"/>
          </p:cNvCxnSpPr>
          <p:nvPr/>
        </p:nvCxnSpPr>
        <p:spPr>
          <a:xfrm flipH="1" rot="16200000">
            <a:off x="5426640" y="4739040"/>
            <a:ext cx="304200" cy="6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endCxn id="373" idx="1"/>
          </p:cNvCxnSpPr>
          <p:nvPr/>
        </p:nvCxnSpPr>
        <p:spPr>
          <a:xfrm flipH="1" rot="16200000">
            <a:off x="5326200" y="5143320"/>
            <a:ext cx="513360" cy="7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7515360" y="5769000"/>
            <a:ext cx="128520" cy="889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23280" y="5948280"/>
            <a:ext cx="128520" cy="889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23280" y="6137280"/>
            <a:ext cx="128520" cy="889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8000" y="6357960"/>
            <a:ext cx="128880" cy="889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6" name=""/>
          <p:cNvCxnSpPr>
            <a:endCxn id="366" idx="1"/>
          </p:cNvCxnSpPr>
          <p:nvPr/>
        </p:nvCxnSpPr>
        <p:spPr>
          <a:xfrm flipH="1" rot="16200000">
            <a:off x="1034640" y="2862720"/>
            <a:ext cx="1677240" cy="29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3086280" y="222120"/>
            <a:ext cx="3660480" cy="11480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lements to Slo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p Element from repor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er/Setter for names, properties and sty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57600" y="717480"/>
            <a:ext cx="4498920" cy="1147680"/>
          </a:xfrm>
          <a:prstGeom prst="wedgeRectCallout">
            <a:avLst>
              <a:gd name="adj1" fmla="val -44916"/>
              <a:gd name="adj2" fmla="val 70055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ing the mod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Element, findDataSet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DataSets, getParameters, Embedded Image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tion Variab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57600" y="1865160"/>
            <a:ext cx="4498920" cy="652680"/>
          </a:xfrm>
          <a:prstGeom prst="wedgeRectCallout">
            <a:avLst>
              <a:gd name="adj1" fmla="val -44916"/>
              <a:gd name="adj2" fmla="val 85277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hemes and importCssSty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29160" y="2286000"/>
            <a:ext cx="4498920" cy="652320"/>
          </a:xfrm>
          <a:prstGeom prst="wedgeRectCallout">
            <a:avLst>
              <a:gd name="adj1" fmla="val -44916"/>
              <a:gd name="adj2" fmla="val 85277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s getBeforeFactory, initialize, setBeforeRend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tHandles suchas getBod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27400" y="3251160"/>
            <a:ext cx="4498920" cy="366840"/>
          </a:xfrm>
          <a:prstGeom prst="wedgeRectCallout">
            <a:avLst>
              <a:gd name="adj1" fmla="val -44916"/>
              <a:gd name="adj2" fmla="val 112768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class. Comments and CustomXM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14960" y="3022560"/>
            <a:ext cx="4741560" cy="961920"/>
          </a:xfrm>
          <a:prstGeom prst="wedgeRectCallout">
            <a:avLst>
              <a:gd name="adj1" fmla="val -40055"/>
              <a:gd name="adj2" fmla="val 73925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s setOnCreate, getOnPageBreak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simple specific properties like setWidth, setBookmar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inding calls setDataSet and getColumnBinding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Binding using paramBindingsIterat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47960" y="4075200"/>
            <a:ext cx="2570040" cy="568080"/>
          </a:xfrm>
          <a:prstGeom prst="wedgeRectCallout">
            <a:avLst>
              <a:gd name="adj1" fmla="val 74273"/>
              <a:gd name="adj2" fmla="val 173740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nd setResultSetColum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nd setHelpTex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57480" y="4923000"/>
            <a:ext cx="3271680" cy="568080"/>
          </a:xfrm>
          <a:prstGeom prst="wedgeRectCallout">
            <a:avLst>
              <a:gd name="adj1" fmla="val 88912"/>
              <a:gd name="adj2" fmla="val 133240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Content. SlotHandle for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B36E-D94D-4D60-9528-BFB1F96FDD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3840" y="6328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roperties, Slots and Structures Sampl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3840" y="1093680"/>
            <a:ext cx="4543560" cy="495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Detail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Class Property Handles, Slot Handles, Structure Hand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67000" y="1665360"/>
            <a:ext cx="3114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PropertyDefn - IElementPropertyDef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10000" y="380052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uctur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x Properties (Lis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0560" y="4883040"/>
            <a:ext cx="3438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dColumn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d Column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"/>
          <p:cNvCxnSpPr>
            <a:stCxn id="397" idx="2"/>
            <a:endCxn id="398" idx="1"/>
          </p:cNvCxnSpPr>
          <p:nvPr/>
        </p:nvCxnSpPr>
        <p:spPr>
          <a:xfrm flipH="1" rot="16200000">
            <a:off x="2313000" y="2832840"/>
            <a:ext cx="1907280" cy="48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510000" y="2195640"/>
            <a:ext cx="4681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Valu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 Class - getValue commands. AddItem used to add to li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271296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ber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ber of struc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65680" y="3254400"/>
            <a:ext cx="3114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erty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 level property can reference a struc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81360" y="4341960"/>
            <a:ext cx="3438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Condition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 Filter Cond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81360" y="5425920"/>
            <a:ext cx="34387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yleRul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 to Element Sty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89720" y="5967360"/>
            <a:ext cx="34383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ghlightRule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ghlight Rule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23920" y="158904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23920" y="19242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24360" y="244620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0000" y="2644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10000" y="2979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16480" y="297972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25840" y="3465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27480" y="42451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27480" y="4579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35400" y="51134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26040" y="56466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27480" y="4579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46640" y="61992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46640" y="588312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67000" y="5646600"/>
            <a:ext cx="2609640" cy="777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Add Method to add cont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Contents (DE Li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tCo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07" idx="0"/>
            <a:endCxn id="421" idx="1"/>
          </p:cNvCxnSpPr>
          <p:nvPr/>
        </p:nvCxnSpPr>
        <p:spPr>
          <a:xfrm flipH="1" rot="16200000">
            <a:off x="-761400" y="3808080"/>
            <a:ext cx="411228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D835-40A7-49BC-A9B4-79181AE932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portItemDetails Exampl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926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able name="MyCustomerTable" id="6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-property name="highlightRule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ruc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operator"&gt;ge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backgroundColor"&gt;#FF0000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pression name="testExpr"&gt;row["CREDITLIMIT"]&lt;/expres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pression name="value1"&gt;0&lt;/expres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struc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list-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width"&gt;100%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dataSet"&gt;Data Set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-property name="boundDataColumn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truc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name"&gt;CUSTOMERNUMBER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pression name="expression"&gt;dataSetRow["CUSTOMERNUMBER"]&lt;/expres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roperty name="dataType"&gt;integer&lt;/proper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struc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5548320" y="566640"/>
            <a:ext cx="3438360" cy="572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8493-9B6E-4FEB-BFCA-C735DA13F2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154080" y="6462720"/>
            <a:ext cx="1006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730-708D-46A2-A4D8-A6E80F1C041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87280" y="2057400"/>
            <a:ext cx="8178840" cy="3733920"/>
          </a:xfrm>
          <a:prstGeom prst="roundRect">
            <a:avLst>
              <a:gd name="adj" fmla="val 3394"/>
            </a:avLst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52280" y="762120"/>
            <a:ext cx="8229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High Level BIRT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63600" y="2133720"/>
            <a:ext cx="4817880" cy="1828800"/>
          </a:xfrm>
          <a:prstGeom prst="roundRect">
            <a:avLst>
              <a:gd name="adj" fmla="val 4495"/>
            </a:avLst>
          </a:prstGeom>
          <a:solidFill>
            <a:srgbClr val="a7c2d5"/>
          </a:solidFill>
          <a:ln w="9360">
            <a:solidFill>
              <a:srgbClr val="558b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Report Desig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14360" y="3429000"/>
            <a:ext cx="4614840" cy="457200"/>
          </a:xfrm>
          <a:prstGeom prst="roundRect">
            <a:avLst>
              <a:gd name="adj" fmla="val 12500"/>
            </a:avLst>
          </a:prstGeom>
          <a:solidFill>
            <a:srgbClr val="7087d0"/>
          </a:solidFill>
          <a:ln w="9360">
            <a:solidFill>
              <a:srgbClr val="3b58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Report Design 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86"/>
          <p:cNvGrpSpPr/>
          <p:nvPr/>
        </p:nvGrpSpPr>
        <p:grpSpPr>
          <a:xfrm>
            <a:off x="2151000" y="4038480"/>
            <a:ext cx="914400" cy="1271880"/>
            <a:chOff x="2151000" y="4038480"/>
            <a:chExt cx="914400" cy="1271880"/>
          </a:xfrm>
        </p:grpSpPr>
        <p:sp>
          <p:nvSpPr>
            <p:cNvPr id="96" name="AutoShape 9"/>
            <p:cNvSpPr/>
            <p:nvPr/>
          </p:nvSpPr>
          <p:spPr>
            <a:xfrm>
              <a:off x="2151000" y="4548240"/>
              <a:ext cx="914400" cy="762120"/>
            </a:xfrm>
            <a:prstGeom prst="flowChartDocument">
              <a:avLst/>
            </a:prstGeom>
            <a:solidFill>
              <a:srgbClr val="e0b94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XML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Repor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2608200" y="4038480"/>
              <a:ext cx="0" cy="4572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90"/>
          <p:cNvGrpSpPr/>
          <p:nvPr/>
        </p:nvGrpSpPr>
        <p:grpSpPr>
          <a:xfrm>
            <a:off x="8085240" y="3200400"/>
            <a:ext cx="1055520" cy="1585800"/>
            <a:chOff x="8085240" y="3200400"/>
            <a:chExt cx="1055520" cy="1585800"/>
          </a:xfrm>
        </p:grpSpPr>
        <p:sp>
          <p:nvSpPr>
            <p:cNvPr id="99" name="Line 15"/>
            <p:cNvSpPr/>
            <p:nvPr/>
          </p:nvSpPr>
          <p:spPr>
            <a:xfrm>
              <a:off x="8085240" y="3557520"/>
              <a:ext cx="3808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8467920" y="3200400"/>
              <a:ext cx="6728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HT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PD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DO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X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Pri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Geneva"/>
                </a:rPr>
                <a:t>CSV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91"/>
          <p:cNvGrpSpPr/>
          <p:nvPr/>
        </p:nvGrpSpPr>
        <p:grpSpPr>
          <a:xfrm>
            <a:off x="5494320" y="2133720"/>
            <a:ext cx="2514600" cy="3504960"/>
            <a:chOff x="5494320" y="2133720"/>
            <a:chExt cx="2514600" cy="3504960"/>
          </a:xfrm>
        </p:grpSpPr>
        <p:grpSp>
          <p:nvGrpSpPr>
            <p:cNvPr id="102" name="Group 87"/>
            <p:cNvGrpSpPr/>
            <p:nvPr/>
          </p:nvGrpSpPr>
          <p:grpSpPr>
            <a:xfrm>
              <a:off x="5494320" y="2133720"/>
              <a:ext cx="2514600" cy="1881000"/>
              <a:chOff x="5494320" y="2133720"/>
              <a:chExt cx="2514600" cy="1881000"/>
            </a:xfrm>
          </p:grpSpPr>
          <p:sp>
            <p:nvSpPr>
              <p:cNvPr id="103" name="AutoShape 6"/>
              <p:cNvSpPr/>
              <p:nvPr/>
            </p:nvSpPr>
            <p:spPr>
              <a:xfrm>
                <a:off x="5494320" y="2133720"/>
                <a:ext cx="2514600" cy="1828800"/>
              </a:xfrm>
              <a:prstGeom prst="roundRect">
                <a:avLst>
                  <a:gd name="adj" fmla="val 4495"/>
                </a:avLst>
              </a:prstGeom>
              <a:solidFill>
                <a:srgbClr val="a7c2d5"/>
              </a:solidFill>
              <a:ln w="9360">
                <a:solidFill>
                  <a:srgbClr val="558b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080" rIns="6408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Geneva"/>
                  </a:rPr>
                  <a:t>Report Engin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82"/>
              <p:cNvGrpSpPr/>
              <p:nvPr/>
            </p:nvGrpSpPr>
            <p:grpSpPr>
              <a:xfrm>
                <a:off x="5570640" y="2590920"/>
                <a:ext cx="2396880" cy="1298520"/>
                <a:chOff x="5570640" y="2590920"/>
                <a:chExt cx="2396880" cy="1298520"/>
              </a:xfrm>
            </p:grpSpPr>
            <p:sp>
              <p:nvSpPr>
                <p:cNvPr id="105" name="AutoShape 7"/>
                <p:cNvSpPr/>
                <p:nvPr/>
              </p:nvSpPr>
              <p:spPr>
                <a:xfrm>
                  <a:off x="6789600" y="3273480"/>
                  <a:ext cx="1143000" cy="612720"/>
                </a:xfrm>
                <a:prstGeom prst="roundRect">
                  <a:avLst>
                    <a:gd name="adj" fmla="val 5468"/>
                  </a:avLst>
                </a:prstGeom>
                <a:solidFill>
                  <a:srgbClr val="a2b2e6"/>
                </a:solidFill>
                <a:ln w="9360">
                  <a:solidFill>
                    <a:srgbClr val="558b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Present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Servic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AutoShape 18"/>
                <p:cNvSpPr/>
                <p:nvPr/>
              </p:nvSpPr>
              <p:spPr>
                <a:xfrm>
                  <a:off x="5570640" y="3276720"/>
                  <a:ext cx="1143000" cy="612720"/>
                </a:xfrm>
                <a:prstGeom prst="roundRect">
                  <a:avLst>
                    <a:gd name="adj" fmla="val 5468"/>
                  </a:avLst>
                </a:prstGeom>
                <a:solidFill>
                  <a:srgbClr val="a2b2e6"/>
                </a:solidFill>
                <a:ln w="9360">
                  <a:solidFill>
                    <a:srgbClr val="558b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Gener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Servic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AutoShape 19"/>
                <p:cNvSpPr/>
                <p:nvPr/>
              </p:nvSpPr>
              <p:spPr>
                <a:xfrm>
                  <a:off x="5570640" y="2590920"/>
                  <a:ext cx="1143000" cy="612720"/>
                </a:xfrm>
                <a:prstGeom prst="roundRect">
                  <a:avLst>
                    <a:gd name="adj" fmla="val 5468"/>
                  </a:avLst>
                </a:prstGeom>
                <a:solidFill>
                  <a:srgbClr val="a2b2e6"/>
                </a:solidFill>
                <a:ln w="9360">
                  <a:solidFill>
                    <a:srgbClr val="558b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Transform.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Geneva"/>
                    </a:rPr>
                    <a:t>Service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8"/>
                <p:cNvSpPr/>
                <p:nvPr/>
              </p:nvSpPr>
              <p:spPr>
                <a:xfrm>
                  <a:off x="5605560" y="2590920"/>
                  <a:ext cx="2361960" cy="129528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Oval 30"/>
              <p:cNvSpPr/>
              <p:nvPr/>
            </p:nvSpPr>
            <p:spPr>
              <a:xfrm>
                <a:off x="5494320" y="3684600"/>
                <a:ext cx="330120" cy="3301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66"/>
                    </a:solidFill>
                    <a:latin typeface="Verdana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AutoShape 10"/>
            <p:cNvSpPr/>
            <p:nvPr/>
          </p:nvSpPr>
          <p:spPr>
            <a:xfrm>
              <a:off x="7053120" y="4572000"/>
              <a:ext cx="914400" cy="762120"/>
            </a:xfrm>
            <a:prstGeom prst="flowChartDocument">
              <a:avLst/>
            </a:prstGeom>
            <a:solidFill>
              <a:srgbClr val="e0b94c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Repor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ocu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6180120" y="4014720"/>
              <a:ext cx="0" cy="4572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37320" y="4091040"/>
              <a:ext cx="380880" cy="30492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>
              <a:off x="7399440" y="4014720"/>
              <a:ext cx="0" cy="4572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21"/>
            <p:cNvSpPr/>
            <p:nvPr/>
          </p:nvSpPr>
          <p:spPr>
            <a:xfrm>
              <a:off x="5722920" y="4495680"/>
              <a:ext cx="914400" cy="685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0b94c"/>
                </a:gs>
                <a:gs pos="100000">
                  <a:srgbClr val="b1933c"/>
                </a:gs>
              </a:gsLst>
              <a:lin ang="0"/>
            </a:gradFill>
            <a:ln w="9360">
              <a:solidFill>
                <a:srgbClr val="886b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22"/>
            <p:cNvSpPr/>
            <p:nvPr/>
          </p:nvSpPr>
          <p:spPr>
            <a:xfrm>
              <a:off x="5951520" y="4952880"/>
              <a:ext cx="914400" cy="685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0b94c"/>
                </a:gs>
                <a:gs pos="100000">
                  <a:srgbClr val="b1933c"/>
                </a:gs>
              </a:gsLst>
              <a:lin ang="0"/>
            </a:gradFill>
            <a:ln w="9360">
              <a:solidFill>
                <a:srgbClr val="886b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AutoShape 25"/>
          <p:cNvSpPr/>
          <p:nvPr/>
        </p:nvSpPr>
        <p:spPr>
          <a:xfrm>
            <a:off x="4084560" y="2590920"/>
            <a:ext cx="914400" cy="761760"/>
          </a:xfrm>
          <a:prstGeom prst="roundRect">
            <a:avLst>
              <a:gd name="adj" fmla="val 5079"/>
            </a:avLst>
          </a:prstGeom>
          <a:solidFill>
            <a:srgbClr val="b4c0e6"/>
          </a:solidFill>
          <a:ln w="9360">
            <a:solidFill>
              <a:srgbClr val="3b58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Cus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Desig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6"/>
          <p:cNvSpPr/>
          <p:nvPr/>
        </p:nvSpPr>
        <p:spPr>
          <a:xfrm flipH="1">
            <a:off x="3182400" y="4014720"/>
            <a:ext cx="2311560" cy="78588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7"/>
          <p:cNvSpPr/>
          <p:nvPr/>
        </p:nvSpPr>
        <p:spPr>
          <a:xfrm>
            <a:off x="287280" y="2057400"/>
            <a:ext cx="5046840" cy="3530520"/>
          </a:xfrm>
          <a:prstGeom prst="pie">
            <a:avLst/>
          </a:pr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9"/>
          <p:cNvSpPr/>
          <p:nvPr/>
        </p:nvSpPr>
        <p:spPr>
          <a:xfrm>
            <a:off x="1820880" y="2057400"/>
            <a:ext cx="330120" cy="330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89"/>
          <p:cNvGrpSpPr/>
          <p:nvPr/>
        </p:nvGrpSpPr>
        <p:grpSpPr>
          <a:xfrm>
            <a:off x="6789600" y="2590920"/>
            <a:ext cx="1143000" cy="612720"/>
            <a:chOff x="6789600" y="2590920"/>
            <a:chExt cx="1143000" cy="612720"/>
          </a:xfrm>
        </p:grpSpPr>
        <p:sp>
          <p:nvSpPr>
            <p:cNvPr id="121" name="AutoShape 20"/>
            <p:cNvSpPr/>
            <p:nvPr/>
          </p:nvSpPr>
          <p:spPr>
            <a:xfrm>
              <a:off x="6789600" y="2590920"/>
              <a:ext cx="1143000" cy="612720"/>
            </a:xfrm>
            <a:prstGeom prst="roundRect">
              <a:avLst>
                <a:gd name="adj" fmla="val 5468"/>
              </a:avLst>
            </a:prstGeom>
            <a:solidFill>
              <a:srgbClr val="a2b2e6"/>
            </a:solidFill>
            <a:ln w="9360">
              <a:solidFill>
                <a:srgbClr val="558b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Char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Eng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31"/>
            <p:cNvSpPr/>
            <p:nvPr/>
          </p:nvSpPr>
          <p:spPr>
            <a:xfrm>
              <a:off x="7477200" y="2781360"/>
              <a:ext cx="330120" cy="330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80"/>
          <p:cNvGrpSpPr/>
          <p:nvPr/>
        </p:nvGrpSpPr>
        <p:grpSpPr>
          <a:xfrm>
            <a:off x="1328760" y="2592360"/>
            <a:ext cx="771480" cy="824040"/>
            <a:chOff x="1328760" y="2592360"/>
            <a:chExt cx="771480" cy="824040"/>
          </a:xfrm>
        </p:grpSpPr>
        <p:sp>
          <p:nvSpPr>
            <p:cNvPr id="124" name="AutoShape 24"/>
            <p:cNvSpPr/>
            <p:nvPr/>
          </p:nvSpPr>
          <p:spPr>
            <a:xfrm>
              <a:off x="1328760" y="2592360"/>
              <a:ext cx="703080" cy="762120"/>
            </a:xfrm>
            <a:custGeom>
              <a:avLst/>
              <a:gdLst>
                <a:gd name="textAreaLeft" fmla="*/ 10440 w 703080"/>
                <a:gd name="textAreaRight" fmla="*/ 692640 w 703080"/>
                <a:gd name="textAreaTop" fmla="*/ 10440 h 762120"/>
                <a:gd name="textAreaBottom" fmla="*/ 751680 h 762120"/>
              </a:gdLst>
              <a:ahLst/>
              <a:rect l="textAreaLeft" t="textAreaTop" r="textAreaRight" b="textAreaBottom"/>
              <a:pathLst>
                <a:path w="21600" h="23413">
                  <a:moveTo>
                    <a:pt x="1097" y="0"/>
                  </a:moveTo>
                  <a:arcTo wR="1097" hR="1097" stAng="16200000" swAng="-5400000"/>
                  <a:lnTo>
                    <a:pt x="0" y="22316"/>
                  </a:lnTo>
                  <a:arcTo wR="1097" hR="1097" stAng="10800000" swAng="-5400000"/>
                  <a:lnTo>
                    <a:pt x="20503" y="23413"/>
                  </a:lnTo>
                  <a:arcTo wR="1097" hR="1097" stAng="5400000" swAng="-5400000"/>
                  <a:lnTo>
                    <a:pt x="21600" y="1097"/>
                  </a:lnTo>
                  <a:arcTo wR="1097" hR="1097" stAng="0" swAng="-5400000"/>
                  <a:close/>
                </a:path>
              </a:pathLst>
            </a:custGeom>
            <a:solidFill>
              <a:srgbClr val="7f93d5"/>
            </a:solidFill>
            <a:ln w="9360">
              <a:solidFill>
                <a:srgbClr val="3b58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Eclips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T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O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32"/>
            <p:cNvSpPr/>
            <p:nvPr/>
          </p:nvSpPr>
          <p:spPr>
            <a:xfrm>
              <a:off x="1770120" y="3086280"/>
              <a:ext cx="330120" cy="330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81"/>
          <p:cNvGrpSpPr/>
          <p:nvPr/>
        </p:nvGrpSpPr>
        <p:grpSpPr>
          <a:xfrm>
            <a:off x="3195720" y="2592360"/>
            <a:ext cx="788760" cy="838080"/>
            <a:chOff x="3195720" y="2592360"/>
            <a:chExt cx="788760" cy="838080"/>
          </a:xfrm>
        </p:grpSpPr>
        <p:sp>
          <p:nvSpPr>
            <p:cNvPr id="127" name="AutoShape 76"/>
            <p:cNvSpPr/>
            <p:nvPr/>
          </p:nvSpPr>
          <p:spPr>
            <a:xfrm>
              <a:off x="3195720" y="2592360"/>
              <a:ext cx="788760" cy="762120"/>
            </a:xfrm>
            <a:prstGeom prst="roundRect">
              <a:avLst>
                <a:gd name="adj" fmla="val 5079"/>
              </a:avLst>
            </a:prstGeom>
            <a:solidFill>
              <a:srgbClr val="7f93d5"/>
            </a:solidFill>
            <a:ln w="9360">
              <a:solidFill>
                <a:srgbClr val="3b58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Eclips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WT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77"/>
            <p:cNvSpPr/>
            <p:nvPr/>
          </p:nvSpPr>
          <p:spPr>
            <a:xfrm>
              <a:off x="3341520" y="3100320"/>
              <a:ext cx="330480" cy="330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Group 88"/>
          <p:cNvGrpSpPr/>
          <p:nvPr/>
        </p:nvGrpSpPr>
        <p:grpSpPr>
          <a:xfrm>
            <a:off x="2151000" y="2590920"/>
            <a:ext cx="914400" cy="838080"/>
            <a:chOff x="2151000" y="2590920"/>
            <a:chExt cx="914400" cy="838080"/>
          </a:xfrm>
        </p:grpSpPr>
        <p:sp>
          <p:nvSpPr>
            <p:cNvPr id="130" name="AutoShape 23"/>
            <p:cNvSpPr/>
            <p:nvPr/>
          </p:nvSpPr>
          <p:spPr>
            <a:xfrm>
              <a:off x="2151000" y="2590920"/>
              <a:ext cx="914400" cy="761760"/>
            </a:xfrm>
            <a:prstGeom prst="roundRect">
              <a:avLst>
                <a:gd name="adj" fmla="val 5079"/>
              </a:avLst>
            </a:prstGeom>
            <a:solidFill>
              <a:srgbClr val="7f93d5"/>
            </a:solidFill>
            <a:ln w="9360">
              <a:solidFill>
                <a:srgbClr val="3b58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Cha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Geneva"/>
                </a:rPr>
                <a:t>Desig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78"/>
            <p:cNvSpPr/>
            <p:nvPr/>
          </p:nvSpPr>
          <p:spPr>
            <a:xfrm>
              <a:off x="2608200" y="3098880"/>
              <a:ext cx="330120" cy="330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AutoShape 79"/>
          <p:cNvSpPr/>
          <p:nvPr/>
        </p:nvSpPr>
        <p:spPr>
          <a:xfrm>
            <a:off x="441360" y="2593800"/>
            <a:ext cx="765000" cy="762120"/>
          </a:xfrm>
          <a:prstGeom prst="roundRect">
            <a:avLst>
              <a:gd name="adj" fmla="val 5079"/>
            </a:avLst>
          </a:prstGeom>
          <a:solidFill>
            <a:srgbClr val="7f93d5"/>
          </a:solidFill>
          <a:ln w="9360">
            <a:solidFill>
              <a:srgbClr val="3b58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Eclip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eneva"/>
              </a:rPr>
              <a:t>Desig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D4F9-32B5-4E6A-8524-02884E48E9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ElementFactor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3720" y="4100400"/>
            <a:ext cx="465588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elHandle label1 = elementFactory.newLabel("Label1"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el1.setText("Customer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Handle cell = (CellHandle) </a:t>
            </a:r>
            <a:r>
              <a:rPr b="1" lang="en-US" sz="1200" spc="-1" strike="noStrike">
                <a:solidFill>
                  <a:srgbClr val="312672"/>
                </a:solidFill>
                <a:latin typeface="Arial"/>
              </a:rPr>
              <a:t>tableheader.getCells( )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t( 0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.getContent( ).add( label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09960" y="4100040"/>
            <a:ext cx="44769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cell id="6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label name="Label1" id="7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text-property name="text"&gt;Customer&lt;/text-proper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/lab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/ce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62200" y="2481120"/>
            <a:ext cx="4876560" cy="205740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24080" y="1628640"/>
            <a:ext cx="50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create new Report Elements.  Use container SlotHandle.ad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752560" y="3562200"/>
            <a:ext cx="1381320" cy="743040"/>
          </a:xfrm>
          <a:prstGeom prst="wedgeRectCallout">
            <a:avLst>
              <a:gd name="adj1" fmla="val -44481"/>
              <a:gd name="adj2" fmla="val 70083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tH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13160" y="3562200"/>
            <a:ext cx="3059280" cy="743040"/>
          </a:xfrm>
          <a:prstGeom prst="wedgeRectCallout">
            <a:avLst>
              <a:gd name="adj1" fmla="val -47509"/>
              <a:gd name="adj2" fmla="val 70083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lementHand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 to specific h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85960" y="3962520"/>
            <a:ext cx="1609560" cy="576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tH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7990-0D12-49B7-A89C-79BF6A3A9B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StructureFactor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3720" y="3976560"/>
            <a:ext cx="41986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lightRule hr = structFactory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reateHighlightRu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.setOperator(DesignChoiceCons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P_OPERATOR_G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.setTestExpression("row[\"CustomerCreditLimit\"]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.setValue1("100000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.setProperty(Highlight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KGROUND_COLOR_MEMB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"blue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Handle ph = th.getPropertyHandle(StyleHand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IGHLIGHT_RULES_PRO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.addItem(h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352400" y="3976560"/>
            <a:ext cx="479124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list-property name="highlightRule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structur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property name="operator"&gt;gt&lt;/proper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property name="backgroundColor"&gt;blue&lt;/proper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expression name="testExpr"&gt;row["CustomerCreditLimit"]&lt;/express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expression name="value1"&gt;100000&lt;/express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/structur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/list-propert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2200" y="2357280"/>
            <a:ext cx="4876560" cy="205740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24080" y="1628640"/>
            <a:ext cx="50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create new structures (complex xml).  Use PropertyHandle on container to ad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2E8F-9552-45E4-BAE0-B1B5329E93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alling the DE API from the RE API/Report Scrip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926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 API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eportRunnable design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Open the repor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= engine.openReportDesign("Reports/TopNPercent.rptdesig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DesignHandle report = (ReportDesignHandle) design.getDesignHandl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.findElement(“table1”).dr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06560" y="1776240"/>
            <a:ext cx="37926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Factory 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Context.getReportRunnable(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Handle.getDesignHandle(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Element("table1").dro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321C-6C52-488A-A679-D224EE1158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Engine Deployment Scenario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54360" y="2624040"/>
            <a:ext cx="1743120" cy="1808280"/>
          </a:xfrm>
          <a:custGeom>
            <a:avLst/>
            <a:gdLst>
              <a:gd name="textAreaLeft" fmla="*/ 84960 w 1743120"/>
              <a:gd name="textAreaRight" fmla="*/ 1658160 w 1743120"/>
              <a:gd name="textAreaTop" fmla="*/ 84960 h 1808280"/>
              <a:gd name="textAreaBottom" fmla="*/ 1723320 h 1808280"/>
            </a:gdLst>
            <a:ahLst/>
            <a:rect l="textAreaLeft" t="textAreaTop" r="textAreaRight" b="textAreaBottom"/>
            <a:pathLst>
              <a:path w="21600" h="22407">
                <a:moveTo>
                  <a:pt x="3600" y="0"/>
                </a:moveTo>
                <a:arcTo wR="3600" hR="3600" stAng="16200000" swAng="-5400000"/>
                <a:lnTo>
                  <a:pt x="0" y="18807"/>
                </a:lnTo>
                <a:arcTo wR="3600" hR="3600" stAng="10800000" swAng="-5400000"/>
                <a:lnTo>
                  <a:pt x="18000" y="2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8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RT Web 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9680" y="2624040"/>
            <a:ext cx="2149200" cy="2479680"/>
          </a:xfrm>
          <a:custGeom>
            <a:avLst/>
            <a:gdLst>
              <a:gd name="textAreaLeft" fmla="*/ 104760 w 2149200"/>
              <a:gd name="textAreaRight" fmla="*/ 2044440 w 2149200"/>
              <a:gd name="textAreaTop" fmla="*/ 104760 h 2479680"/>
              <a:gd name="textAreaBottom" fmla="*/ 2374920 h 2479680"/>
            </a:gdLst>
            <a:ahLst/>
            <a:rect l="textAreaLeft" t="textAreaTop" r="textAreaRight" b="textAreaBottom"/>
            <a:pathLst>
              <a:path w="21600" h="24921">
                <a:moveTo>
                  <a:pt x="3600" y="0"/>
                </a:moveTo>
                <a:arcTo wR="3600" hR="3600" stAng="16200000" swAng="-5400000"/>
                <a:lnTo>
                  <a:pt x="0" y="21321"/>
                </a:lnTo>
                <a:arcTo wR="3600" hR="3600" stAng="10800000" swAng="-5400000"/>
                <a:lnTo>
                  <a:pt x="18000" y="24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ipse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RT or RCP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06840" y="4826160"/>
            <a:ext cx="1253520" cy="1320120"/>
            <a:chOff x="2706840" y="4826160"/>
            <a:chExt cx="1253520" cy="1320120"/>
          </a:xfrm>
        </p:grpSpPr>
        <p:sp>
          <p:nvSpPr>
            <p:cNvPr id="446" name=""/>
            <p:cNvSpPr/>
            <p:nvPr/>
          </p:nvSpPr>
          <p:spPr>
            <a:xfrm>
              <a:off x="2706840" y="4826160"/>
              <a:ext cx="974880" cy="104220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5800" y="4965120"/>
              <a:ext cx="975240" cy="104220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5480" y="5104080"/>
              <a:ext cx="974880" cy="1042200"/>
            </a:xfrm>
            <a:prstGeom prst="foldedCorner">
              <a:avLst>
                <a:gd name="adj" fmla="val 125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ptDesig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ign 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048280" y="4826160"/>
            <a:ext cx="1253880" cy="1320120"/>
            <a:chOff x="5048280" y="4826160"/>
            <a:chExt cx="1253880" cy="1320120"/>
          </a:xfrm>
        </p:grpSpPr>
        <p:sp>
          <p:nvSpPr>
            <p:cNvPr id="450" name=""/>
            <p:cNvSpPr/>
            <p:nvPr/>
          </p:nvSpPr>
          <p:spPr>
            <a:xfrm>
              <a:off x="5048280" y="4826160"/>
              <a:ext cx="975240" cy="10422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7240" y="4965120"/>
              <a:ext cx="975600" cy="10422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26920" y="5104080"/>
              <a:ext cx="975240" cy="10422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pt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816120" y="3251160"/>
            <a:ext cx="1323720" cy="1320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01800" y="3981600"/>
            <a:ext cx="1184040" cy="417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63880" y="2971800"/>
            <a:ext cx="1324080" cy="1320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33720" y="3736800"/>
            <a:ext cx="1184400" cy="417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92760" y="2624040"/>
            <a:ext cx="1603440" cy="1778040"/>
          </a:xfrm>
          <a:custGeom>
            <a:avLst/>
            <a:gdLst>
              <a:gd name="textAreaLeft" fmla="*/ 78120 w 1603440"/>
              <a:gd name="textAreaRight" fmla="*/ 1525320 w 1603440"/>
              <a:gd name="textAreaTop" fmla="*/ 78120 h 1778040"/>
              <a:gd name="textAreaBottom" fmla="*/ 1699920 h 1778040"/>
            </a:gdLst>
            <a:ahLst/>
            <a:rect l="textAreaLeft" t="textAreaTop" r="textAreaRight" b="textAreaBottom"/>
            <a:pathLst>
              <a:path w="21600" h="23952">
                <a:moveTo>
                  <a:pt x="3600" y="0"/>
                </a:moveTo>
                <a:arcTo wR="3600" hR="3600" stAng="16200000" swAng="-5400000"/>
                <a:lnTo>
                  <a:pt x="0" y="20352"/>
                </a:lnTo>
                <a:arcTo wR="3600" hR="3600" stAng="10800000" swAng="-5400000"/>
                <a:lnTo>
                  <a:pt x="18000" y="23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af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02280" y="3317760"/>
            <a:ext cx="1184400" cy="417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6120" y="1542960"/>
            <a:ext cx="7480080" cy="625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inated HTML, PDF, XLS WORD, PostScript, TOC, Bookmarks, CS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59200" y="2624040"/>
            <a:ext cx="1743120" cy="1808280"/>
          </a:xfrm>
          <a:custGeom>
            <a:avLst/>
            <a:gdLst>
              <a:gd name="textAreaLeft" fmla="*/ 84960 w 1743120"/>
              <a:gd name="textAreaRight" fmla="*/ 1658160 w 1743120"/>
              <a:gd name="textAreaTop" fmla="*/ 84960 h 1808280"/>
              <a:gd name="textAreaBottom" fmla="*/ 1723320 h 1808280"/>
            </a:gdLst>
            <a:ahLst/>
            <a:rect l="textAreaLeft" t="textAreaTop" r="textAreaRight" b="textAreaBottom"/>
            <a:pathLst>
              <a:path w="21600" h="22407">
                <a:moveTo>
                  <a:pt x="3600" y="0"/>
                </a:moveTo>
                <a:arcTo wR="3600" hR="3600" stAng="16200000" swAng="-5400000"/>
                <a:lnTo>
                  <a:pt x="0" y="18807"/>
                </a:lnTo>
                <a:arcTo wR="3600" hR="3600" stAng="10800000" swAng="-5400000"/>
                <a:lnTo>
                  <a:pt x="18000" y="224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8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2EE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68720" y="2971800"/>
            <a:ext cx="1324080" cy="1320840"/>
          </a:xfrm>
          <a:prstGeom prst="roundRect">
            <a:avLst>
              <a:gd name="adj" fmla="val 16667"/>
            </a:avLst>
          </a:prstGeom>
          <a:solidFill>
            <a:srgbClr val="dfc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 Servl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38560" y="3765600"/>
            <a:ext cx="1184400" cy="417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38560" y="3319560"/>
            <a:ext cx="1184400" cy="417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02280" y="3763800"/>
            <a:ext cx="1184400" cy="417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88840" y="4624560"/>
            <a:ext cx="1184400" cy="417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ng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AD16-F38D-4556-BB6D-258BFBBB3F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04920" y="739800"/>
            <a:ext cx="1828800" cy="29844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ViewerEx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5772240"/>
            <a:ext cx="144792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1133640"/>
            <a:ext cx="144756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149544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ipt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61952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000760"/>
            <a:ext cx="144792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91120" y="5915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1297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1647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5153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57625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RT required runtime plug-i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111456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efault location for BIRT log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500076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 for BIRT required Ja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5381640"/>
            <a:ext cx="144792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6168960"/>
            <a:ext cx="144792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91120" y="6311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614376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 for OSGi configuration fi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187632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19320" y="2257560"/>
            <a:ext cx="144756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263844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90920" y="301932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j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90920" y="3400560"/>
            <a:ext cx="144756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378144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90920" y="416232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y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149544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 for class files used in a Scripted Data Sour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2028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1876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location of Report Desig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317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3019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Script files used with the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35528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340056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P Fragments used to build the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9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378144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s used by the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038480" y="4314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4162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S files used by the Vie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9760" y="3514680"/>
            <a:ext cx="3143520" cy="1600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ewer example uses a PlatformServletCon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by default the plugins are searched for in WEB-INF/platfor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95760" y="98280"/>
            <a:ext cx="34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ngineService.java For Viewer Engine Detai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1E49-FCF5-43C4-A544-55C1F2E8A6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2044800"/>
            <a:ext cx="1828800" cy="29844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ServletEx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43200" y="4781520"/>
            <a:ext cx="144792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243828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19320" y="3629160"/>
            <a:ext cx="144756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-IN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4010040"/>
            <a:ext cx="144792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4924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2602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1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477216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RT required runtime plug-ins.  Copy from runtim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2419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efault location for BIRT log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401004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 for BIRT required Jars. Copy from Runtim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4390920"/>
            <a:ext cx="144792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43200" y="5178600"/>
            <a:ext cx="144792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5321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62640" y="51436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ation for OSGi configuration files.  Copy from runtim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2838600"/>
            <a:ext cx="1447560" cy="30456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3219480"/>
            <a:ext cx="1447560" cy="304920"/>
          </a:xfrm>
          <a:prstGeom prst="rect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90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8288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location of Report Desig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66880" y="3381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0" y="321948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location for report i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133800"/>
            <a:ext cx="2838600" cy="1028520"/>
          </a:xfrm>
          <a:prstGeom prst="wedgeRectCallout">
            <a:avLst>
              <a:gd name="adj1" fmla="val -44407"/>
              <a:gd name="adj2" fmla="val 80865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atformServlet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1057320"/>
            <a:ext cx="75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 Example – See Dynamic Report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2640" y="758880"/>
            <a:ext cx="3819600" cy="1285920"/>
          </a:xfrm>
          <a:prstGeom prst="wedgeRectCallout">
            <a:avLst>
              <a:gd name="adj1" fmla="val -45717"/>
              <a:gd name="adj2" fmla="val 70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ingleton to launch Design or Report Engine.  Start Platform on Servlet Startup and shutdown Platform on Servlet destro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EFC0-90E2-4EE8-BF4C-5814049751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WebViewer Utility Class see RCPViewer Exampl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3720" y="1776240"/>
            <a:ext cx="2803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Viewer.displa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ample for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 external browser or SWT Browser Wi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133800" y="1557360"/>
            <a:ext cx="601020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49F-D973-4677-A52C-2AA2454602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672"/>
                </a:solidFill>
                <a:latin typeface="Arial"/>
              </a:rPr>
              <a:t>Using the RE/DE API Plugins in an RCP application</a:t>
            </a:r>
            <a:endParaRPr b="0" lang="en-US" sz="24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14000" y="1776240"/>
            <a:ext cx="29005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t BIRT Home and use engines as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RCPEngine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SWT Browser Wi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200400" y="1657440"/>
            <a:ext cx="594360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9DE5-6BE3-4AB5-A30B-DF8BAD8867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You Very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www.eclipse.org/b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tworld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28C6-7FAD-45EA-B321-9CAFA574F4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BIRT API Pipelin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24040" y="3228840"/>
            <a:ext cx="5486400" cy="3048120"/>
          </a:xfrm>
          <a:prstGeom prst="rect">
            <a:avLst/>
          </a:prstGeom>
          <a:solidFill>
            <a:srgbClr val="bfbc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3720" y="2543040"/>
            <a:ext cx="1447920" cy="304920"/>
          </a:xfrm>
          <a:prstGeom prst="rect">
            <a:avLst/>
          </a:prstGeom>
          <a:solidFill>
            <a:srgbClr val="a399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3720" y="3457440"/>
            <a:ext cx="1447920" cy="304920"/>
          </a:xfrm>
          <a:prstGeom prst="rect">
            <a:avLst/>
          </a:prstGeom>
          <a:solidFill>
            <a:srgbClr val="a399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T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5120" y="1476360"/>
            <a:ext cx="1905120" cy="533520"/>
          </a:xfrm>
          <a:prstGeom prst="rect">
            <a:avLst/>
          </a:prstGeom>
          <a:solidFill>
            <a:srgbClr val="c189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 Desig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lipse Persp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33720" y="4371840"/>
            <a:ext cx="1447920" cy="304920"/>
          </a:xfrm>
          <a:prstGeom prst="rect">
            <a:avLst/>
          </a:prstGeom>
          <a:solidFill>
            <a:srgbClr val="a399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62320" y="5362560"/>
            <a:ext cx="990720" cy="762120"/>
          </a:xfrm>
          <a:prstGeom prst="foldedCorner">
            <a:avLst>
              <a:gd name="adj" fmla="val 12500"/>
            </a:avLst>
          </a:prstGeom>
          <a:solidFill>
            <a:srgbClr val="c189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8960" y="3457440"/>
            <a:ext cx="1447560" cy="304920"/>
          </a:xfrm>
          <a:prstGeom prst="rect">
            <a:avLst/>
          </a:prstGeom>
          <a:solidFill>
            <a:srgbClr val="a399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35" idx="0"/>
          </p:cNvCxnSpPr>
          <p:nvPr/>
        </p:nvCxnSpPr>
        <p:spPr>
          <a:xfrm>
            <a:off x="4657320" y="200952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37" idx="1"/>
            <a:endCxn id="140" idx="0"/>
          </p:cNvCxnSpPr>
          <p:nvPr/>
        </p:nvCxnSpPr>
        <p:spPr>
          <a:xfrm flipV="1" rot="10800000">
            <a:off x="2751840" y="1742760"/>
            <a:ext cx="953280" cy="17150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0" idx="3"/>
            <a:endCxn id="135" idx="1"/>
          </p:cNvCxnSpPr>
          <p:nvPr/>
        </p:nvCxnSpPr>
        <p:spPr>
          <a:xfrm flipV="1">
            <a:off x="3476520" y="2695320"/>
            <a:ext cx="457920" cy="9151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>
            <a:stCxn id="140" idx="2"/>
            <a:endCxn id="138" idx="1"/>
          </p:cNvCxnSpPr>
          <p:nvPr/>
        </p:nvCxnSpPr>
        <p:spPr>
          <a:xfrm flipH="1" rot="16200000">
            <a:off x="2961000" y="3552480"/>
            <a:ext cx="762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35" idx="2"/>
            <a:endCxn id="136" idx="0"/>
          </p:cNvCxnSpPr>
          <p:nvPr/>
        </p:nvCxnSpPr>
        <p:spPr>
          <a:xfrm>
            <a:off x="4657320" y="28476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8" idx="0"/>
          </p:cNvCxnSpPr>
          <p:nvPr/>
        </p:nvCxnSpPr>
        <p:spPr>
          <a:xfrm>
            <a:off x="4657320" y="37620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" name=""/>
          <p:cNvCxnSpPr>
            <a:stCxn id="138" idx="2"/>
            <a:endCxn id="139" idx="0"/>
          </p:cNvCxnSpPr>
          <p:nvPr/>
        </p:nvCxnSpPr>
        <p:spPr>
          <a:xfrm>
            <a:off x="4657320" y="467640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533920" y="4829040"/>
            <a:ext cx="990720" cy="762120"/>
          </a:xfrm>
          <a:prstGeom prst="foldedCorner">
            <a:avLst>
              <a:gd name="adj" fmla="val 12500"/>
            </a:avLst>
          </a:prstGeom>
          <a:solidFill>
            <a:srgbClr val="d6b1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8" idx="3"/>
            <a:endCxn id="148" idx="0"/>
          </p:cNvCxnSpPr>
          <p:nvPr/>
        </p:nvCxnSpPr>
        <p:spPr>
          <a:xfrm>
            <a:off x="5381280" y="4524480"/>
            <a:ext cx="64836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1952640" y="559116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31C5-F6B4-42F9-8B87-A44E74779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BIRT API OSGi Startup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startup required BIRT Plug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S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by both the DE API and the R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a PlatformConfig class to configure the star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Config and EngineConfig extend the PlatformConf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Context Class Determines location of Plug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used to create DesignEngine or Report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079C-3BB4-4B17-B288-34C78E810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723960"/>
            <a:ext cx="7924680" cy="1676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739960"/>
            <a:ext cx="177300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gine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nfigure BI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2880" y="32860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LogConfig( location, level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logging variables (null for location will not create a fi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2880" y="381960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AppContext( HashMa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an be used to add Java Objects for scrip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40048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247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743200"/>
            <a:ext cx="152424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Engine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2880" y="435276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sourcePath( ResourceLocation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retrieve resources – Libs, Image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2880" y="48862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sourceLocator( IResourceLocator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build your own resource lo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2880" y="541980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TempDir( location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irt.data.engine.memcachesize (default 10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2880" y="595296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MaxRowsPerQuery( location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aximum Rows to Retrie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33344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BIRTHome( location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t the location of the BIRT Plug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186696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OSGiArguments( String[]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configure OSG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8002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PlatformContext( IPlatformContext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locate the OSGi Plug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257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tform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60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739960"/>
            <a:ext cx="177336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nfigure BI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400480"/>
            <a:ext cx="0" cy="33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247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2743200"/>
            <a:ext cx="137160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esign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2971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9960" y="3286080"/>
            <a:ext cx="4191120" cy="45720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ResourceLocator( IResourceLocator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sed to build your own resource lo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7D2D-A55D-457E-9ABA-B8FC48C46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320" y="4267080"/>
            <a:ext cx="8991360" cy="2438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4495680"/>
            <a:ext cx="2763720" cy="46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latformCon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tion=getPlatform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838080"/>
            <a:ext cx="46004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d to startup OSGi and create Factory Objects.  Static meth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05120"/>
            <a:ext cx="1773360" cy="46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the Plat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1773000" cy="46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ut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op the Plat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1905120"/>
            <a:ext cx="421164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Factory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unch a plugin that implements the FactoryService Exten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2514600"/>
            <a:ext cx="1676520" cy="533520"/>
          </a:xfrm>
          <a:prstGeom prst="rect">
            <a:avLst/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EngineFa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 Engine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514600"/>
            <a:ext cx="1676160" cy="533520"/>
          </a:xfrm>
          <a:prstGeom prst="rect">
            <a:avLst/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EngineFa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ign Engine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3124080"/>
            <a:ext cx="1676160" cy="533520"/>
          </a:xfrm>
          <a:prstGeom prst="rect">
            <a:avLst/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EngineFa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Engine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124080"/>
            <a:ext cx="1676520" cy="533520"/>
          </a:xfrm>
          <a:prstGeom prst="rect">
            <a:avLst/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AdapterFa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 Apater AP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to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543480"/>
            <a:ext cx="1773360" cy="46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SGILaunc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5029200"/>
            <a:ext cx="4648320" cy="30492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tformServletCon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5410080"/>
            <a:ext cx="4648320" cy="1143000"/>
          </a:xfrm>
          <a:prstGeom prst="rect">
            <a:avLst/>
          </a:prstGeom>
          <a:solidFill>
            <a:srgbClr val="d6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s for javax.servlet.context.tempd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s platform directory in tempd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s getResourcePaths for /WEB-INF/platform to locate plug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es plugins and configuration to the tempdir/platform dire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5029200"/>
            <a:ext cx="3962520" cy="304920"/>
          </a:xfrm>
          <a:prstGeom prst="roundRect">
            <a:avLst>
              <a:gd name="adj" fmla="val 16667"/>
            </a:avLst>
          </a:prstGeom>
          <a:solidFill>
            <a:srgbClr val="fac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tformFileCon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410080"/>
            <a:ext cx="3962520" cy="1143000"/>
          </a:xfrm>
          <a:prstGeom prst="rect">
            <a:avLst/>
          </a:prstGeom>
          <a:solidFill>
            <a:srgbClr val="d6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ault PlatformContex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s for Plugins in BIRT_H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4572000"/>
            <a:ext cx="3352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aformConfig: EngineConfig/DesignConf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77" idx="0"/>
            <a:endCxn id="180" idx="2"/>
          </p:cNvCxnSpPr>
          <p:nvPr/>
        </p:nvCxnSpPr>
        <p:spPr>
          <a:xfrm flipV="1" rot="16200000">
            <a:off x="1968480" y="1663560"/>
            <a:ext cx="1902600" cy="3304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066680" y="23623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9" idx="2"/>
            <a:endCxn id="180" idx="0"/>
          </p:cNvCxnSpPr>
          <p:nvPr/>
        </p:nvCxnSpPr>
        <p:spPr>
          <a:xfrm rot="5400000">
            <a:off x="2621520" y="-59040"/>
            <a:ext cx="610560" cy="3318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endCxn id="181" idx="0"/>
          </p:cNvCxnSpPr>
          <p:nvPr/>
        </p:nvCxnSpPr>
        <p:spPr>
          <a:xfrm>
            <a:off x="2819160" y="1599840"/>
            <a:ext cx="4309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endCxn id="182" idx="0"/>
          </p:cNvCxnSpPr>
          <p:nvPr/>
        </p:nvCxnSpPr>
        <p:spPr>
          <a:xfrm>
            <a:off x="4419720" y="1599840"/>
            <a:ext cx="203112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5029200" y="2876400"/>
            <a:ext cx="2162160" cy="13906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 implement your own IPlatform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BB58-76B1-4F84-ABC2-C02EF0688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latform Startup Code for DE and RE API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926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Engin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signEngine engin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Config confi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Config(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.setBIRTHome("C:/birt/birt-runtime-2.2.0m5rc/birt-runtime-2_2_0/ReportEngine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onfig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signEngineFactory factory = (IDesignEngineFactory)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eateFactory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DesignEngineFactory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SION_DESIGN_ENGINE_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= factory.createDesignEngine( config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xception ex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printStackTrac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06560" y="1776240"/>
            <a:ext cx="37926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Engin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eportEngine engine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Config confi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gineConfi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.setBIRTHome("C:/birt/birt-runtime-2.2.0m5rc/birt-runtime-2_2_0/ReportEngine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rt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onfig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eportEngineFactory factory = (IReportEngineFactory)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eateFactory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ReportEngineFactory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TENSION_REPORT_ENGINE_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= factory.createReportEngine( config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xception ex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printStackTrac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2150-FB0B-4C2A-B436-529B7AEB8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port Engine API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Generate Report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Generate Report Output (PDF, HTML, Paginated HTML,WORD, XLS, Postscri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 Creates task to implement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r Two Phase operation (Run Task then Render Task or RunAndRenderTa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Extraction Task for retrieving Data from a report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Details Task for retrieving Parameter information, including dynamic and cascadin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8C92-B931-4E44-AC99-9621A98D8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Scott Rosenbaum</dc:creator>
  <dc:description/>
  <dc:language>en-US</dc:language>
  <cp:lastModifiedBy>jweathersby</cp:lastModifiedBy>
  <dcterms:modified xsi:type="dcterms:W3CDTF">2007-03-05T23:20:20Z</dcterms:modified>
  <cp:revision>409</cp:revision>
  <dc:subject>BIRT Extension Tutorial EclipseCon 2007</dc:subject>
  <dc:title>Extending BIRT</dc:title>
</cp:coreProperties>
</file>