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9BDB-BE89-45B3-8E5C-BEF4DBFB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95C-DBCA-4B84-AF78-CBE3A883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ED9A-0F8B-4D90-A7AC-74B25D71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94C-BB9B-4B3C-9099-3875E2EA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75C-871F-4147-81FB-4ECC109F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6FFE-6E8F-4F13-BFE0-13A97945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887F-D5B9-4075-A3FC-AFEFC604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3DE-C0EF-4F89-B04E-0EDEFAAC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6B29-1306-4AE4-9ABC-222F8F51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8A3-FB3A-40D9-809C-8C913627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738E-19AB-42A5-9481-B5F9301F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3E7-089F-4895-9EDF-1951BEB5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C4B3-CC0A-41FB-ABD4-4C2123066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5000" y="1042920"/>
            <a:ext cx="1403640" cy="439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clipse workbe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ining plug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773360"/>
            <a:ext cx="2887560" cy="555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org.eclipse.ve.examples.customw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ugin contrib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customwidgetplugin.j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>
            <a:off x="1466640" y="1482840"/>
            <a:ext cx="10080" cy="56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85800" y="2994120"/>
            <a:ext cx="2440080" cy="2127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98840" y="2328840"/>
            <a:ext cx="0" cy="5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565360"/>
            <a:ext cx="246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st.Java openWith Visual Edi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32400" y="9493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2720" y="549360"/>
            <a:ext cx="114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clipse.exe J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lugin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8000" y="549360"/>
            <a:ext cx="168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sual Editor target J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ntime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45276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44960" y="2840040"/>
            <a:ext cx="1427400" cy="1276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rget VM inclu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customwidgets.j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sed on the build 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Java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4:32:03Z</dcterms:created>
  <dc:creator>IBM_USER</dc:creator>
  <dc:description/>
  <dc:language>en-US</dc:language>
  <cp:lastModifiedBy>Gili Mendel</cp:lastModifiedBy>
  <dcterms:modified xsi:type="dcterms:W3CDTF">2005-03-22T18:31:52Z</dcterms:modified>
  <cp:revision>4</cp:revision>
  <dc:subject/>
  <dc:title>Slide 1</dc:title>
</cp:coreProperties>
</file>