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D7B3-A9DA-4924-B944-7AA38E226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0A14-8751-4A05-AD24-CD1648C99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F1F0-3C83-457B-96A5-69C5847B0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76C3-685A-4712-A3BE-65FE81F8A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9AD9-CA0F-460C-B7B7-8BBDE97C6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1D4F-380E-4094-8616-DD0B46979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5393-4546-419D-806D-470EDB0D3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7EA9-5551-4FBD-9EC0-B97CA0553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78C9-77C3-4D07-8333-96F91633F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A8E4-C91C-456B-8AAD-683AB882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77BB-17DB-497C-BE27-84C40B6A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53B0-163E-4C8F-8403-0CF43889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9E1F8-82B2-4F67-BC6E-247A7AE61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124080" y="228600"/>
            <a:ext cx="4488120" cy="49068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62120" y="2895480"/>
            <a:ext cx="4171680" cy="23241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 flipH="1">
            <a:off x="4952520" y="2286000"/>
            <a:ext cx="76212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029200" y="3657600"/>
            <a:ext cx="380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2T19:06:03Z</dcterms:created>
  <dc:creator>Gili Mendel</dc:creator>
  <dc:description/>
  <dc:language>en-US</dc:language>
  <cp:lastModifiedBy>Gili Mendel</cp:lastModifiedBy>
  <dcterms:modified xsi:type="dcterms:W3CDTF">2005-03-22T19:24:10Z</dcterms:modified>
  <cp:revision>1</cp:revision>
  <dc:subject/>
  <dc:title>Slide 1</dc:title>
</cp:coreProperties>
</file>